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1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7AF0-CF9B-4AF9-BC0D-CAC0772BD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F6E9-7B47-423C-A336-1AD89D1B646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2F0D-A3B6-4AE3-823D-F90753CA60E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2779-B00A-4334-8D9A-4AA732C4A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F5CB-51A3-4CF6-9CD6-5C1E90E70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796E-6611-43E4-8632-5E8816C36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1FF0-25E5-4DF2-AE8A-6CB77A7BFE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5E12-1556-4D0E-B8C1-40620F5E1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4FE53-2B9B-42BD-A784-A858593C6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58A5-EE0B-4B40-8276-4E93634C4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5BB6-BD46-464F-9C8D-99C27CE74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F277-A59D-4850-9F5C-C2B873E01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6F64-9DC0-4616-81A5-8504FDC37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E19F-2170-4279-B9C0-75ECDED9C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5DD2-AC34-4478-8051-BF6C42D8D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bama.ua.edu/~jhartman" TargetMode="External"/><Relationship Id="rId3" Type="http://schemas.openxmlformats.org/officeDocument/2006/relationships/hyperlink" Target="http://bama.ua.edu/~jhartman/689/tutintro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6D1A-951E-4D1E-8868-5992A74EB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9">
            <a:hlinkClick r:id="rId2"/>
          </p:cNvPr>
          <p:cNvSpPr/>
          <p:nvPr/>
        </p:nvSpPr>
        <p:spPr>
          <a:xfrm>
            <a:off x="685800" y="6400800"/>
            <a:ext cx="2895480" cy="304920"/>
          </a:xfrm>
          <a:custGeom>
            <a:avLst/>
            <a:gdLst>
              <a:gd name="textAreaLeft" fmla="*/ 19440 w 2895480"/>
              <a:gd name="textAreaRight" fmla="*/ 2876040 w 2895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04894" h="21600">
                <a:moveTo>
                  <a:pt x="0" y="0"/>
                </a:moveTo>
                <a:lnTo>
                  <a:pt x="204894" y="0"/>
                </a:lnTo>
                <a:lnTo>
                  <a:pt x="204894" y="21600"/>
                </a:lnTo>
                <a:lnTo>
                  <a:pt x="0" y="21600"/>
                </a:lnTo>
                <a:close/>
              </a:path>
              <a:path fill="lightenLess" w="204894" h="21600">
                <a:moveTo>
                  <a:pt x="0" y="0"/>
                </a:moveTo>
                <a:lnTo>
                  <a:pt x="204894" y="0"/>
                </a:lnTo>
                <a:lnTo>
                  <a:pt x="203494" y="1400"/>
                </a:lnTo>
                <a:lnTo>
                  <a:pt x="1400" y="1400"/>
                </a:lnTo>
                <a:close/>
              </a:path>
              <a:path fill="darken" w="204894" h="21600">
                <a:moveTo>
                  <a:pt x="204894" y="0"/>
                </a:moveTo>
                <a:lnTo>
                  <a:pt x="204894" y="21600"/>
                </a:lnTo>
                <a:lnTo>
                  <a:pt x="203494" y="20200"/>
                </a:lnTo>
                <a:lnTo>
                  <a:pt x="203494" y="1400"/>
                </a:lnTo>
                <a:close/>
              </a:path>
              <a:path fill="darkenLess" w="204894" h="21600">
                <a:moveTo>
                  <a:pt x="204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94" y="20200"/>
                </a:lnTo>
                <a:close/>
              </a:path>
              <a:path fill="lighten" w="204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AutoShape 10">
            <a:hlinkClick r:id="rId3"/>
          </p:cNvPr>
          <p:cNvSpPr/>
          <p:nvPr/>
        </p:nvSpPr>
        <p:spPr>
          <a:xfrm>
            <a:off x="3049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noFill/>
          <a:ln w="6480">
            <a:solidFill>
              <a:srgbClr val="ead7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39.xml"/><Relationship Id="rId4" Type="http://schemas.openxmlformats.org/officeDocument/2006/relationships/image" Target="../media/image16.png"/><Relationship Id="rId5" Type="http://schemas.openxmlformats.org/officeDocument/2006/relationships/slide" Target="slide50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" Target="slide20.xml"/><Relationship Id="rId4" Type="http://schemas.openxmlformats.org/officeDocument/2006/relationships/slide" Target="slide22.xml"/><Relationship Id="rId5" Type="http://schemas.openxmlformats.org/officeDocument/2006/relationships/slide" Target="slide5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" Target="slide19.xml"/><Relationship Id="rId4" Type="http://schemas.openxmlformats.org/officeDocument/2006/relationships/slide" Target="slide21.xml"/><Relationship Id="rId5" Type="http://schemas.openxmlformats.org/officeDocument/2006/relationships/slide" Target="slide34.xml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39.xml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51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D73E-96C8-4B05-B6A3-1396AA6A5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915840" y="609480"/>
            <a:ext cx="7313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d7f5"/>
                </a:solidFill>
                <a:latin typeface="Tahoma"/>
              </a:rPr>
              <a:t>An Interactive Tutorial for SPSS 10.0 for Windows</a:t>
            </a:r>
            <a:r>
              <a:rPr b="0" lang="en-US" sz="2400" spc="-1" strike="noStrike" baseline="30000">
                <a:solidFill>
                  <a:srgbClr val="ead7f5"/>
                </a:solidFill>
                <a:latin typeface="Tahoma"/>
              </a:rPr>
              <a:t>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914400" y="2133720"/>
            <a:ext cx="7313760" cy="190476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Factoria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Analysis of Varianc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2819520" y="4648320"/>
            <a:ext cx="3504960" cy="91440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ahoma"/>
              </a:rPr>
              <a:t>Julia Hartma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46B2-4D1E-4977-89C3-449327054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19" name="Picture 5" descr="C:\Instructional Technology\BCT689\PowerPoint\spss gifs\factorial anova\UNIVAR3.TIF"/>
          <p:cNvPicPr/>
          <p:nvPr/>
        </p:nvPicPr>
        <p:blipFill>
          <a:blip r:embed="rId1"/>
          <a:stretch/>
        </p:blipFill>
        <p:spPr>
          <a:xfrm>
            <a:off x="611280" y="2284560"/>
            <a:ext cx="4433760" cy="36590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5257800" y="251316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 categorical variable, to the box labeled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xed Factor(s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AutoShape 7">
            <a:hlinkClick r:id="" action="ppaction://hlinkshowjump?jump=nextslide"/>
          </p:cNvPr>
          <p:cNvSpPr/>
          <p:nvPr/>
        </p:nvSpPr>
        <p:spPr>
          <a:xfrm>
            <a:off x="2133720" y="33526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5BBA-A548-46D1-8E9C-59C945E04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25" name="Picture 9" descr="C:\Instructional Technology\BCT689\PowerPoint\spss gifs\factorial anova\UNIVAR4a.gif"/>
          <p:cNvPicPr/>
          <p:nvPr/>
        </p:nvPicPr>
        <p:blipFill>
          <a:blip r:embed="rId1"/>
          <a:stretch/>
        </p:blipFill>
        <p:spPr>
          <a:xfrm>
            <a:off x="611280" y="2284560"/>
            <a:ext cx="4441680" cy="3654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1">
            <a:hlinkClick r:id="" action="ppaction://hlinkshowjump?jump=nextslide"/>
          </p:cNvPr>
          <p:cNvSpPr/>
          <p:nvPr/>
        </p:nvSpPr>
        <p:spPr>
          <a:xfrm>
            <a:off x="838080" y="40384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254560" y="2513160"/>
            <a:ext cx="350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list, point to the variabl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RESIDENCY LOCA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6AE8-208C-467C-B56F-69428A1BD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254560" y="2513160"/>
            <a:ext cx="350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list, point to the variabl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RESIDENCY LOCA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Picture 10" descr="C:\Instructional Technology\BCT689\PowerPoint\spss gifs\factorial anova\UNIVAR5a.gif"/>
          <p:cNvPicPr/>
          <p:nvPr/>
        </p:nvPicPr>
        <p:blipFill>
          <a:blip r:embed="rId1"/>
          <a:stretch/>
        </p:blipFill>
        <p:spPr>
          <a:xfrm>
            <a:off x="611280" y="2284560"/>
            <a:ext cx="4441680" cy="3654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6172200" y="4495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AutoShape 12">
            <a:hlinkClick r:id="" action="ppaction://hlinkshowjump?jump=nextslide"/>
          </p:cNvPr>
          <p:cNvSpPr/>
          <p:nvPr/>
        </p:nvSpPr>
        <p:spPr>
          <a:xfrm>
            <a:off x="762120" y="4064040"/>
            <a:ext cx="3124080" cy="216000"/>
          </a:xfrm>
          <a:custGeom>
            <a:avLst/>
            <a:gdLst>
              <a:gd name="textAreaLeft" fmla="*/ 13680 w 3124080"/>
              <a:gd name="textAreaRight" fmla="*/ 3110400 w 3124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11924" h="21600">
                <a:moveTo>
                  <a:pt x="0" y="0"/>
                </a:moveTo>
                <a:lnTo>
                  <a:pt x="311924" y="0"/>
                </a:lnTo>
                <a:lnTo>
                  <a:pt x="311924" y="21600"/>
                </a:lnTo>
                <a:lnTo>
                  <a:pt x="0" y="21600"/>
                </a:lnTo>
                <a:close/>
              </a:path>
              <a:path fill="lightenLess" w="311924" h="21600">
                <a:moveTo>
                  <a:pt x="0" y="0"/>
                </a:moveTo>
                <a:lnTo>
                  <a:pt x="311924" y="0"/>
                </a:lnTo>
                <a:lnTo>
                  <a:pt x="310524" y="1400"/>
                </a:lnTo>
                <a:lnTo>
                  <a:pt x="1400" y="1400"/>
                </a:lnTo>
                <a:close/>
              </a:path>
              <a:path fill="darken" w="311924" h="21600">
                <a:moveTo>
                  <a:pt x="311924" y="0"/>
                </a:moveTo>
                <a:lnTo>
                  <a:pt x="311924" y="21600"/>
                </a:lnTo>
                <a:lnTo>
                  <a:pt x="310524" y="20200"/>
                </a:lnTo>
                <a:lnTo>
                  <a:pt x="310524" y="1400"/>
                </a:lnTo>
                <a:close/>
              </a:path>
              <a:path fill="darkenLess" w="311924" h="21600">
                <a:moveTo>
                  <a:pt x="31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524" y="20200"/>
                </a:lnTo>
                <a:close/>
              </a:path>
              <a:path fill="lighten" w="31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74CE-ED8D-4ACD-8D9A-C10B51749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38" name="Picture 5" descr="C:\Instructional Technology\BCT689\PowerPoint\spss gifs\factorial anova\UNIVAR6.TIF"/>
          <p:cNvPicPr/>
          <p:nvPr/>
        </p:nvPicPr>
        <p:blipFill>
          <a:blip r:embed="rId1"/>
          <a:stretch/>
        </p:blipFill>
        <p:spPr>
          <a:xfrm>
            <a:off x="611280" y="2284560"/>
            <a:ext cx="4460760" cy="36590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5257800" y="251316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nother categorical variable, to the box labeled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xed Fac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s)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AutoShape 7">
            <a:hlinkClick r:id="" action="ppaction://hlinkshowjump?jump=nextslide"/>
          </p:cNvPr>
          <p:cNvSpPr/>
          <p:nvPr/>
        </p:nvSpPr>
        <p:spPr>
          <a:xfrm>
            <a:off x="2133720" y="33526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890E-F78E-4E50-ABB5-B8F127CA9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44" name="Picture 5" descr="C:\Instructional Technology\BCT689\PowerPoint\spss gifs\factorial anova\UNIVAR7.TIF"/>
          <p:cNvPicPr/>
          <p:nvPr/>
        </p:nvPicPr>
        <p:blipFill>
          <a:blip r:embed="rId1"/>
          <a:stretch/>
        </p:blipFill>
        <p:spPr>
          <a:xfrm>
            <a:off x="611280" y="2284560"/>
            <a:ext cx="4460760" cy="36590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5254560" y="2513160"/>
            <a:ext cx="335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further down the list and point to the variabl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 STEP 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AutoShape 7">
            <a:hlinkClick r:id="" action="ppaction://hlinkshowjump?jump=nextslide"/>
          </p:cNvPr>
          <p:cNvSpPr/>
          <p:nvPr/>
        </p:nvSpPr>
        <p:spPr>
          <a:xfrm>
            <a:off x="762120" y="4851360"/>
            <a:ext cx="1218960" cy="228600"/>
          </a:xfrm>
          <a:custGeom>
            <a:avLst/>
            <a:gdLst>
              <a:gd name="textAreaLeft" fmla="*/ 14760 w 1218960"/>
              <a:gd name="textAreaRight" fmla="*/ 1204200 w 12189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15030" h="21600">
                <a:moveTo>
                  <a:pt x="0" y="0"/>
                </a:moveTo>
                <a:lnTo>
                  <a:pt x="115030" y="0"/>
                </a:lnTo>
                <a:lnTo>
                  <a:pt x="115030" y="21600"/>
                </a:lnTo>
                <a:lnTo>
                  <a:pt x="0" y="21600"/>
                </a:lnTo>
                <a:close/>
              </a:path>
              <a:path fill="lightenLess" w="115030" h="21600">
                <a:moveTo>
                  <a:pt x="0" y="0"/>
                </a:moveTo>
                <a:lnTo>
                  <a:pt x="115030" y="0"/>
                </a:lnTo>
                <a:lnTo>
                  <a:pt x="113630" y="1400"/>
                </a:lnTo>
                <a:lnTo>
                  <a:pt x="1400" y="1400"/>
                </a:lnTo>
                <a:close/>
              </a:path>
              <a:path fill="darken" w="115030" h="21600">
                <a:moveTo>
                  <a:pt x="115030" y="0"/>
                </a:moveTo>
                <a:lnTo>
                  <a:pt x="115030" y="21600"/>
                </a:lnTo>
                <a:lnTo>
                  <a:pt x="113630" y="20200"/>
                </a:lnTo>
                <a:lnTo>
                  <a:pt x="113630" y="1400"/>
                </a:lnTo>
                <a:close/>
              </a:path>
              <a:path fill="darkenLess" w="115030" h="21600">
                <a:moveTo>
                  <a:pt x="115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30" y="20200"/>
                </a:lnTo>
                <a:close/>
              </a:path>
              <a:path fill="lighten" w="115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3300-6861-477D-88F5-91CFDBBBB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50" name="Picture 5" descr="C:\Instructional Technology\BCT689\PowerPoint\spss gifs\factorial anova\UNIVAR8.TIF"/>
          <p:cNvPicPr/>
          <p:nvPr/>
        </p:nvPicPr>
        <p:blipFill>
          <a:blip r:embed="rId1"/>
          <a:stretch/>
        </p:blipFill>
        <p:spPr>
          <a:xfrm>
            <a:off x="611280" y="2284560"/>
            <a:ext cx="4460760" cy="365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6019920" y="4906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8">
            <a:hlinkClick r:id="" action="ppaction://hlinkshowjump?jump=nextslide"/>
          </p:cNvPr>
          <p:cNvSpPr/>
          <p:nvPr/>
        </p:nvSpPr>
        <p:spPr>
          <a:xfrm>
            <a:off x="685800" y="5029200"/>
            <a:ext cx="1905120" cy="228600"/>
          </a:xfrm>
          <a:custGeom>
            <a:avLst/>
            <a:gdLst>
              <a:gd name="textAreaLeft" fmla="*/ 14760 w 1905120"/>
              <a:gd name="textAreaRight" fmla="*/ 1890360 w 1905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79762" h="21600">
                <a:moveTo>
                  <a:pt x="0" y="0"/>
                </a:moveTo>
                <a:lnTo>
                  <a:pt x="179762" y="0"/>
                </a:lnTo>
                <a:lnTo>
                  <a:pt x="179762" y="21600"/>
                </a:lnTo>
                <a:lnTo>
                  <a:pt x="0" y="21600"/>
                </a:lnTo>
                <a:close/>
              </a:path>
              <a:path fill="lightenLess" w="179762" h="21600">
                <a:moveTo>
                  <a:pt x="0" y="0"/>
                </a:moveTo>
                <a:lnTo>
                  <a:pt x="179762" y="0"/>
                </a:lnTo>
                <a:lnTo>
                  <a:pt x="178362" y="1400"/>
                </a:lnTo>
                <a:lnTo>
                  <a:pt x="1400" y="1400"/>
                </a:lnTo>
                <a:close/>
              </a:path>
              <a:path fill="darken" w="179762" h="21600">
                <a:moveTo>
                  <a:pt x="179762" y="0"/>
                </a:moveTo>
                <a:lnTo>
                  <a:pt x="179762" y="21600"/>
                </a:lnTo>
                <a:lnTo>
                  <a:pt x="178362" y="20200"/>
                </a:lnTo>
                <a:lnTo>
                  <a:pt x="178362" y="1400"/>
                </a:lnTo>
                <a:close/>
              </a:path>
              <a:path fill="darkenLess" w="179762" h="21600">
                <a:moveTo>
                  <a:pt x="179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362" y="20200"/>
                </a:lnTo>
                <a:close/>
              </a:path>
              <a:path fill="lighten" w="179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254560" y="2513160"/>
            <a:ext cx="335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further down the list and point to the variabl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 STEP 2 TOT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7F8C-D5E8-48DC-8CE1-F4E82AD75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57" name="Picture 5" descr="C:\Instructional Technology\BCT689\PowerPoint\spss gifs\factorial anova\UNIVAR9.TIF"/>
          <p:cNvPicPr/>
          <p:nvPr/>
        </p:nvPicPr>
        <p:blipFill>
          <a:blip r:embed="rId1"/>
          <a:stretch/>
        </p:blipFill>
        <p:spPr>
          <a:xfrm>
            <a:off x="611280" y="2284560"/>
            <a:ext cx="4451400" cy="3655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5257800" y="251316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 continuous variable, to the box labeled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pendent Variabl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AutoShape 7">
            <a:hlinkClick r:id="" action="ppaction://hlinkshowjump?jump=nextslide"/>
          </p:cNvPr>
          <p:cNvSpPr/>
          <p:nvPr/>
        </p:nvSpPr>
        <p:spPr>
          <a:xfrm>
            <a:off x="2133720" y="27432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257800" y="251460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 continuous variable, to the box labeled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pendent Variabl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FB4A-612B-41C5-8B9D-0A7A19806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Tutorial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64" name="Picture 4" descr="C:\Instructional Technology\BCT689\PowerPoint\spss gifs\factorial anova\UNIVAR10.TIF"/>
          <p:cNvPicPr/>
          <p:nvPr/>
        </p:nvPicPr>
        <p:blipFill>
          <a:blip r:embed="rId1"/>
          <a:stretch/>
        </p:blipFill>
        <p:spPr>
          <a:xfrm>
            <a:off x="611280" y="2284560"/>
            <a:ext cx="4433760" cy="36525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257800" y="228600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Univariate GLM procedure offers a number of optio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257800" y="479916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a list of the options included in this tutorial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257800" y="37479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is butt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Picture 10" descr="C:\Instructional Technology\BCT689\PowerPoint\optnbutt.gif"/>
          <p:cNvPicPr/>
          <p:nvPr/>
        </p:nvPicPr>
        <p:blipFill>
          <a:blip r:embed="rId2"/>
          <a:stretch/>
        </p:blipFill>
        <p:spPr>
          <a:xfrm>
            <a:off x="6095880" y="4343400"/>
            <a:ext cx="960480" cy="35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9" name="AutoShape 11">
            <a:hlinkClick r:id="rId3" action="ppaction://hlinksldjump"/>
          </p:cNvPr>
          <p:cNvSpPr/>
          <p:nvPr/>
        </p:nvSpPr>
        <p:spPr>
          <a:xfrm>
            <a:off x="6095880" y="426708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8E5C-4050-4834-9BC5-753E7F1D1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List of Tutorial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572000" y="278136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file plots of estimated marginal me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0" y="361332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 hoc tests for pairwise multiple compari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0" y="445140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tional descriptive and diagnostic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609480" y="19000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he box for the desired op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572000" y="5292720"/>
            <a:ext cx="4191120" cy="45972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inue with the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AutoShape 14">
            <a:hlinkClick r:id="rId1" action="ppaction://hlinksldjump"/>
          </p:cNvPr>
          <p:cNvSpPr/>
          <p:nvPr/>
        </p:nvSpPr>
        <p:spPr>
          <a:xfrm>
            <a:off x="4876920" y="2895480"/>
            <a:ext cx="3886200" cy="685800"/>
          </a:xfrm>
          <a:custGeom>
            <a:avLst/>
            <a:gdLst>
              <a:gd name="textAreaLeft" fmla="*/ 44280 w 3886200"/>
              <a:gd name="textAreaRight" fmla="*/ 3841920 w 3886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2347" h="21600">
                <a:moveTo>
                  <a:pt x="0" y="0"/>
                </a:moveTo>
                <a:lnTo>
                  <a:pt x="122347" y="0"/>
                </a:lnTo>
                <a:lnTo>
                  <a:pt x="122347" y="21600"/>
                </a:lnTo>
                <a:lnTo>
                  <a:pt x="0" y="21600"/>
                </a:lnTo>
                <a:close/>
              </a:path>
              <a:path fill="lightenLess" w="122347" h="21600">
                <a:moveTo>
                  <a:pt x="0" y="0"/>
                </a:moveTo>
                <a:lnTo>
                  <a:pt x="122347" y="0"/>
                </a:lnTo>
                <a:lnTo>
                  <a:pt x="120947" y="1400"/>
                </a:lnTo>
                <a:lnTo>
                  <a:pt x="1400" y="1400"/>
                </a:lnTo>
                <a:close/>
              </a:path>
              <a:path fill="darken" w="122347" h="21600">
                <a:moveTo>
                  <a:pt x="122347" y="0"/>
                </a:moveTo>
                <a:lnTo>
                  <a:pt x="122347" y="21600"/>
                </a:lnTo>
                <a:lnTo>
                  <a:pt x="120947" y="20200"/>
                </a:lnTo>
                <a:lnTo>
                  <a:pt x="120947" y="1400"/>
                </a:lnTo>
                <a:close/>
              </a:path>
              <a:path fill="darkenLess" w="122347" h="21600">
                <a:moveTo>
                  <a:pt x="122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47" y="20200"/>
                </a:lnTo>
                <a:close/>
              </a:path>
              <a:path fill="lighten" w="122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AutoShape 15">
            <a:hlinkClick r:id="rId2" action="ppaction://hlinksldjump"/>
          </p:cNvPr>
          <p:cNvSpPr/>
          <p:nvPr/>
        </p:nvSpPr>
        <p:spPr>
          <a:xfrm>
            <a:off x="4572000" y="3657600"/>
            <a:ext cx="4114800" cy="762120"/>
          </a:xfrm>
          <a:custGeom>
            <a:avLst/>
            <a:gdLst>
              <a:gd name="textAreaLeft" fmla="*/ 49320 w 4114800"/>
              <a:gd name="textAreaRight" fmla="*/ 4065480 w 4114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6577" h="21600">
                <a:moveTo>
                  <a:pt x="0" y="0"/>
                </a:moveTo>
                <a:lnTo>
                  <a:pt x="116577" y="0"/>
                </a:lnTo>
                <a:lnTo>
                  <a:pt x="116577" y="21600"/>
                </a:lnTo>
                <a:lnTo>
                  <a:pt x="0" y="21600"/>
                </a:lnTo>
                <a:close/>
              </a:path>
              <a:path fill="lightenLess" w="116577" h="21600">
                <a:moveTo>
                  <a:pt x="0" y="0"/>
                </a:moveTo>
                <a:lnTo>
                  <a:pt x="116577" y="0"/>
                </a:lnTo>
                <a:lnTo>
                  <a:pt x="115177" y="1400"/>
                </a:lnTo>
                <a:lnTo>
                  <a:pt x="1400" y="1400"/>
                </a:lnTo>
                <a:close/>
              </a:path>
              <a:path fill="darken" w="116577" h="21600">
                <a:moveTo>
                  <a:pt x="116577" y="0"/>
                </a:moveTo>
                <a:lnTo>
                  <a:pt x="116577" y="21600"/>
                </a:lnTo>
                <a:lnTo>
                  <a:pt x="115177" y="20200"/>
                </a:lnTo>
                <a:lnTo>
                  <a:pt x="115177" y="1400"/>
                </a:lnTo>
                <a:close/>
              </a:path>
              <a:path fill="darkenLess" w="116577" h="21600">
                <a:moveTo>
                  <a:pt x="11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77" y="20200"/>
                </a:lnTo>
                <a:close/>
              </a:path>
              <a:path fill="lighten" w="11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AutoShape 16">
            <a:hlinkClick r:id="" action="ppaction://hlinkshowjump?jump=previousslide"/>
            <a:hlinkClick r:id="rId3" action="ppaction://hlinksldjump"/>
          </p:cNvPr>
          <p:cNvSpPr/>
          <p:nvPr/>
        </p:nvSpPr>
        <p:spPr>
          <a:xfrm>
            <a:off x="4572000" y="4495680"/>
            <a:ext cx="4114800" cy="762120"/>
          </a:xfrm>
          <a:custGeom>
            <a:avLst/>
            <a:gdLst>
              <a:gd name="textAreaLeft" fmla="*/ 49320 w 4114800"/>
              <a:gd name="textAreaRight" fmla="*/ 4065480 w 4114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6577" h="21600">
                <a:moveTo>
                  <a:pt x="0" y="0"/>
                </a:moveTo>
                <a:lnTo>
                  <a:pt x="116577" y="0"/>
                </a:lnTo>
                <a:lnTo>
                  <a:pt x="116577" y="21600"/>
                </a:lnTo>
                <a:lnTo>
                  <a:pt x="0" y="21600"/>
                </a:lnTo>
                <a:close/>
              </a:path>
              <a:path fill="lightenLess" w="116577" h="21600">
                <a:moveTo>
                  <a:pt x="0" y="0"/>
                </a:moveTo>
                <a:lnTo>
                  <a:pt x="116577" y="0"/>
                </a:lnTo>
                <a:lnTo>
                  <a:pt x="115177" y="1400"/>
                </a:lnTo>
                <a:lnTo>
                  <a:pt x="1400" y="1400"/>
                </a:lnTo>
                <a:close/>
              </a:path>
              <a:path fill="darken" w="116577" h="21600">
                <a:moveTo>
                  <a:pt x="116577" y="0"/>
                </a:moveTo>
                <a:lnTo>
                  <a:pt x="116577" y="21600"/>
                </a:lnTo>
                <a:lnTo>
                  <a:pt x="115177" y="20200"/>
                </a:lnTo>
                <a:lnTo>
                  <a:pt x="115177" y="1400"/>
                </a:lnTo>
                <a:close/>
              </a:path>
              <a:path fill="darkenLess" w="116577" h="21600">
                <a:moveTo>
                  <a:pt x="11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77" y="20200"/>
                </a:lnTo>
                <a:close/>
              </a:path>
              <a:path fill="lighten" w="11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Picture 17" descr="C:\Instructional Technology\BCT689\PowerPoint\spss gifs\factorial anova\univarmain.gif"/>
          <p:cNvPicPr/>
          <p:nvPr/>
        </p:nvPicPr>
        <p:blipFill>
          <a:blip r:embed="rId4"/>
          <a:stretch/>
        </p:blipFill>
        <p:spPr>
          <a:xfrm>
            <a:off x="611280" y="2741760"/>
            <a:ext cx="3884400" cy="320328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8">
            <a:hlinkClick r:id="rId5" action="ppaction://hlinksldjump"/>
          </p:cNvPr>
          <p:cNvSpPr/>
          <p:nvPr/>
        </p:nvSpPr>
        <p:spPr>
          <a:xfrm>
            <a:off x="4572000" y="5334120"/>
            <a:ext cx="4191120" cy="609480"/>
          </a:xfrm>
          <a:custGeom>
            <a:avLst/>
            <a:gdLst>
              <a:gd name="textAreaLeft" fmla="*/ 39240 w 4191120"/>
              <a:gd name="textAreaRight" fmla="*/ 4151880 w 4191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8459" h="21600">
                <a:moveTo>
                  <a:pt x="0" y="0"/>
                </a:moveTo>
                <a:lnTo>
                  <a:pt x="148459" y="0"/>
                </a:lnTo>
                <a:lnTo>
                  <a:pt x="148459" y="21600"/>
                </a:lnTo>
                <a:lnTo>
                  <a:pt x="0" y="21600"/>
                </a:lnTo>
                <a:close/>
              </a:path>
              <a:path fill="lightenLess" w="148459" h="21600">
                <a:moveTo>
                  <a:pt x="0" y="0"/>
                </a:moveTo>
                <a:lnTo>
                  <a:pt x="148459" y="0"/>
                </a:lnTo>
                <a:lnTo>
                  <a:pt x="147059" y="1400"/>
                </a:lnTo>
                <a:lnTo>
                  <a:pt x="1400" y="1400"/>
                </a:lnTo>
                <a:close/>
              </a:path>
              <a:path fill="darken" w="148459" h="21600">
                <a:moveTo>
                  <a:pt x="148459" y="0"/>
                </a:moveTo>
                <a:lnTo>
                  <a:pt x="148459" y="21600"/>
                </a:lnTo>
                <a:lnTo>
                  <a:pt x="147059" y="20200"/>
                </a:lnTo>
                <a:lnTo>
                  <a:pt x="147059" y="1400"/>
                </a:lnTo>
                <a:close/>
              </a:path>
              <a:path fill="darkenLess" w="148459" h="21600">
                <a:moveTo>
                  <a:pt x="148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059" y="20200"/>
                </a:lnTo>
                <a:close/>
              </a:path>
              <a:path fill="lighten" w="148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6E7B-9E28-4AF8-B616-3A37DA55B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12" descr="C:\Instructional Technology\BCT689\PowerPoint\spss gifs\factorial anova\univarmain.gif"/>
          <p:cNvPicPr/>
          <p:nvPr/>
        </p:nvPicPr>
        <p:blipFill>
          <a:blip r:embed="rId1"/>
          <a:stretch/>
        </p:blipFill>
        <p:spPr>
          <a:xfrm>
            <a:off x="611280" y="2741760"/>
            <a:ext cx="3884400" cy="32032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List of Tutorial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572000" y="277812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file plots of estimated marginal me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572000" y="361332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 hoc tests for pairwise multiple compari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72000" y="445140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tional descriptive and diagnostic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09480" y="19000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he box for the desired op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572000" y="5305320"/>
            <a:ext cx="4191120" cy="45972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inue with the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Picture 9" descr="C:\Instructional Technology\BCT689\PowerPoint\spss gifs\factorial anova\explainplot.gif"/>
          <p:cNvPicPr/>
          <p:nvPr/>
        </p:nvPicPr>
        <p:blipFill>
          <a:blip r:embed="rId2"/>
          <a:stretch/>
        </p:blipFill>
        <p:spPr>
          <a:xfrm>
            <a:off x="1981080" y="3006720"/>
            <a:ext cx="2789280" cy="4222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0">
            <a:hlinkClick r:id="rId3" action="ppaction://hlinksldjump"/>
          </p:cNvPr>
          <p:cNvSpPr/>
          <p:nvPr/>
        </p:nvSpPr>
        <p:spPr>
          <a:xfrm>
            <a:off x="4572000" y="3581280"/>
            <a:ext cx="4114800" cy="838440"/>
          </a:xfrm>
          <a:custGeom>
            <a:avLst/>
            <a:gdLst>
              <a:gd name="textAreaLeft" fmla="*/ 54360 w 4114800"/>
              <a:gd name="textAreaRight" fmla="*/ 4060440 w 4114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05970" h="21600">
                <a:moveTo>
                  <a:pt x="0" y="0"/>
                </a:moveTo>
                <a:lnTo>
                  <a:pt x="105970" y="0"/>
                </a:lnTo>
                <a:lnTo>
                  <a:pt x="105970" y="21600"/>
                </a:lnTo>
                <a:lnTo>
                  <a:pt x="0" y="21600"/>
                </a:lnTo>
                <a:close/>
              </a:path>
              <a:path fill="lightenLess" w="105970" h="21600">
                <a:moveTo>
                  <a:pt x="0" y="0"/>
                </a:moveTo>
                <a:lnTo>
                  <a:pt x="105970" y="0"/>
                </a:lnTo>
                <a:lnTo>
                  <a:pt x="104570" y="1400"/>
                </a:lnTo>
                <a:lnTo>
                  <a:pt x="1400" y="1400"/>
                </a:lnTo>
                <a:close/>
              </a:path>
              <a:path fill="darken" w="105970" h="21600">
                <a:moveTo>
                  <a:pt x="105970" y="0"/>
                </a:moveTo>
                <a:lnTo>
                  <a:pt x="105970" y="21600"/>
                </a:lnTo>
                <a:lnTo>
                  <a:pt x="104570" y="20200"/>
                </a:lnTo>
                <a:lnTo>
                  <a:pt x="104570" y="1400"/>
                </a:lnTo>
                <a:close/>
              </a:path>
              <a:path fill="darkenLess" w="105970" h="21600">
                <a:moveTo>
                  <a:pt x="10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570" y="20200"/>
                </a:lnTo>
                <a:close/>
              </a:path>
              <a:path fill="lighten" w="10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AutoShape 11">
            <a:hlinkClick r:id="rId4" action="ppaction://hlinksldjump"/>
          </p:cNvPr>
          <p:cNvSpPr/>
          <p:nvPr/>
        </p:nvSpPr>
        <p:spPr>
          <a:xfrm>
            <a:off x="4572000" y="2895480"/>
            <a:ext cx="4114800" cy="685800"/>
          </a:xfrm>
          <a:custGeom>
            <a:avLst/>
            <a:gdLst>
              <a:gd name="textAreaLeft" fmla="*/ 44280 w 4114800"/>
              <a:gd name="textAreaRight" fmla="*/ 4070520 w 4114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9543" h="21600">
                <a:moveTo>
                  <a:pt x="0" y="0"/>
                </a:moveTo>
                <a:lnTo>
                  <a:pt x="129543" y="0"/>
                </a:lnTo>
                <a:lnTo>
                  <a:pt x="129543" y="21600"/>
                </a:lnTo>
                <a:lnTo>
                  <a:pt x="0" y="21600"/>
                </a:lnTo>
                <a:close/>
              </a:path>
              <a:path fill="lightenLess" w="129543" h="21600">
                <a:moveTo>
                  <a:pt x="0" y="0"/>
                </a:moveTo>
                <a:lnTo>
                  <a:pt x="129543" y="0"/>
                </a:lnTo>
                <a:lnTo>
                  <a:pt x="128143" y="1400"/>
                </a:lnTo>
                <a:lnTo>
                  <a:pt x="1400" y="1400"/>
                </a:lnTo>
                <a:close/>
              </a:path>
              <a:path fill="darken" w="129543" h="21600">
                <a:moveTo>
                  <a:pt x="129543" y="0"/>
                </a:moveTo>
                <a:lnTo>
                  <a:pt x="129543" y="21600"/>
                </a:lnTo>
                <a:lnTo>
                  <a:pt x="128143" y="20200"/>
                </a:lnTo>
                <a:lnTo>
                  <a:pt x="128143" y="1400"/>
                </a:lnTo>
                <a:close/>
              </a:path>
              <a:path fill="darkenLess" w="129543" h="21600">
                <a:moveTo>
                  <a:pt x="129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43" y="20200"/>
                </a:lnTo>
                <a:close/>
              </a:path>
              <a:path fill="lighten" w="129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AutoShape 13">
            <a:hlinkClick r:id="rId5" action="ppaction://hlinksldjump"/>
          </p:cNvPr>
          <p:cNvSpPr/>
          <p:nvPr/>
        </p:nvSpPr>
        <p:spPr>
          <a:xfrm>
            <a:off x="4572000" y="5334120"/>
            <a:ext cx="4038480" cy="609480"/>
          </a:xfrm>
          <a:custGeom>
            <a:avLst/>
            <a:gdLst>
              <a:gd name="textAreaLeft" fmla="*/ 39240 w 4038480"/>
              <a:gd name="textAreaRight" fmla="*/ 3999240 w 4038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3052" h="21600">
                <a:moveTo>
                  <a:pt x="0" y="0"/>
                </a:moveTo>
                <a:lnTo>
                  <a:pt x="143052" y="0"/>
                </a:lnTo>
                <a:lnTo>
                  <a:pt x="143052" y="21600"/>
                </a:lnTo>
                <a:lnTo>
                  <a:pt x="0" y="21600"/>
                </a:lnTo>
                <a:close/>
              </a:path>
              <a:path fill="lightenLess" w="143052" h="21600">
                <a:moveTo>
                  <a:pt x="0" y="0"/>
                </a:moveTo>
                <a:lnTo>
                  <a:pt x="143052" y="0"/>
                </a:lnTo>
                <a:lnTo>
                  <a:pt x="141652" y="1400"/>
                </a:lnTo>
                <a:lnTo>
                  <a:pt x="1400" y="1400"/>
                </a:lnTo>
                <a:close/>
              </a:path>
              <a:path fill="darken" w="143052" h="21600">
                <a:moveTo>
                  <a:pt x="143052" y="0"/>
                </a:moveTo>
                <a:lnTo>
                  <a:pt x="143052" y="21600"/>
                </a:lnTo>
                <a:lnTo>
                  <a:pt x="141652" y="20200"/>
                </a:lnTo>
                <a:lnTo>
                  <a:pt x="141652" y="1400"/>
                </a:lnTo>
                <a:close/>
              </a:path>
              <a:path fill="darkenLess" w="143052" h="21600">
                <a:moveTo>
                  <a:pt x="143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52" y="20200"/>
                </a:lnTo>
                <a:close/>
              </a:path>
              <a:path fill="lighten" w="143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AutoShape 17">
            <a:hlinkClick r:id="rId6" action="ppaction://hlinksldjump"/>
          </p:cNvPr>
          <p:cNvSpPr/>
          <p:nvPr/>
        </p:nvSpPr>
        <p:spPr>
          <a:xfrm>
            <a:off x="4572000" y="4572000"/>
            <a:ext cx="3962520" cy="685800"/>
          </a:xfrm>
          <a:custGeom>
            <a:avLst/>
            <a:gdLst>
              <a:gd name="textAreaLeft" fmla="*/ 44280 w 3962520"/>
              <a:gd name="textAreaRight" fmla="*/ 3918240 w 3962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4750" h="21600">
                <a:moveTo>
                  <a:pt x="0" y="0"/>
                </a:moveTo>
                <a:lnTo>
                  <a:pt x="124750" y="0"/>
                </a:lnTo>
                <a:lnTo>
                  <a:pt x="124750" y="21600"/>
                </a:lnTo>
                <a:lnTo>
                  <a:pt x="0" y="21600"/>
                </a:lnTo>
                <a:close/>
              </a:path>
              <a:path fill="lightenLess" w="124750" h="21600">
                <a:moveTo>
                  <a:pt x="0" y="0"/>
                </a:moveTo>
                <a:lnTo>
                  <a:pt x="124750" y="0"/>
                </a:lnTo>
                <a:lnTo>
                  <a:pt x="123350" y="1400"/>
                </a:lnTo>
                <a:lnTo>
                  <a:pt x="1400" y="1400"/>
                </a:lnTo>
                <a:close/>
              </a:path>
              <a:path fill="darken" w="124750" h="21600">
                <a:moveTo>
                  <a:pt x="124750" y="0"/>
                </a:moveTo>
                <a:lnTo>
                  <a:pt x="124750" y="21600"/>
                </a:lnTo>
                <a:lnTo>
                  <a:pt x="123350" y="20200"/>
                </a:lnTo>
                <a:lnTo>
                  <a:pt x="123350" y="1400"/>
                </a:lnTo>
                <a:close/>
              </a:path>
              <a:path fill="darkenLess" w="124750" h="21600">
                <a:moveTo>
                  <a:pt x="124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350" y="20200"/>
                </a:lnTo>
                <a:close/>
              </a:path>
              <a:path fill="lighten" w="124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8472-EA8B-4B49-928E-257AC120F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62120" y="220968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is tutorial, Factorial Analysis of Variance (ANOVA) will be used to determine whether gender and residency location interact to affect scores on the US Medical Licensing Exam (Part 2) scor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44AA-D6E4-4B6F-BE6A-4945CD4A3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9" name="Picture 14" descr="C:\Instructional Technology\BCT689\PowerPoint\spss gifs\factorial anova\univarmain.gif"/>
          <p:cNvPicPr/>
          <p:nvPr/>
        </p:nvPicPr>
        <p:blipFill>
          <a:blip r:embed="rId1"/>
          <a:stretch/>
        </p:blipFill>
        <p:spPr>
          <a:xfrm>
            <a:off x="611280" y="2741760"/>
            <a:ext cx="3884400" cy="32032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List of Tutorial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572000" y="278136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file plots of estimated marginal me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572000" y="361332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 hoc tests for pairwise multiple compari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572000" y="445140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tional descriptive and diagnostic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609480" y="19000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he box for the desired op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4572000" y="5292720"/>
            <a:ext cx="4191120" cy="45972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inue with the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6" name="Picture 10" descr="C:\Instructional Technology\BCT689\PowerPoint\spss gifs\factorial anova\explainpost.gif"/>
          <p:cNvPicPr/>
          <p:nvPr/>
        </p:nvPicPr>
        <p:blipFill>
          <a:blip r:embed="rId2"/>
          <a:stretch/>
        </p:blipFill>
        <p:spPr>
          <a:xfrm>
            <a:off x="1600200" y="3809880"/>
            <a:ext cx="3235320" cy="4111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1">
            <a:hlinkClick r:id="rId3" action="ppaction://hlinksldjump"/>
          </p:cNvPr>
          <p:cNvSpPr/>
          <p:nvPr/>
        </p:nvSpPr>
        <p:spPr>
          <a:xfrm>
            <a:off x="4572000" y="2819520"/>
            <a:ext cx="4114800" cy="761760"/>
          </a:xfrm>
          <a:custGeom>
            <a:avLst/>
            <a:gdLst>
              <a:gd name="textAreaLeft" fmla="*/ 49320 w 4114800"/>
              <a:gd name="textAreaRight" fmla="*/ 4065480 w 4114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6632" h="21600">
                <a:moveTo>
                  <a:pt x="0" y="0"/>
                </a:moveTo>
                <a:lnTo>
                  <a:pt x="116632" y="0"/>
                </a:lnTo>
                <a:lnTo>
                  <a:pt x="116632" y="21600"/>
                </a:lnTo>
                <a:lnTo>
                  <a:pt x="0" y="21600"/>
                </a:lnTo>
                <a:close/>
              </a:path>
              <a:path fill="lightenLess" w="116632" h="21600">
                <a:moveTo>
                  <a:pt x="0" y="0"/>
                </a:moveTo>
                <a:lnTo>
                  <a:pt x="116632" y="0"/>
                </a:lnTo>
                <a:lnTo>
                  <a:pt x="115232" y="1400"/>
                </a:lnTo>
                <a:lnTo>
                  <a:pt x="1400" y="1400"/>
                </a:lnTo>
                <a:close/>
              </a:path>
              <a:path fill="darken" w="116632" h="21600">
                <a:moveTo>
                  <a:pt x="116632" y="0"/>
                </a:moveTo>
                <a:lnTo>
                  <a:pt x="116632" y="21600"/>
                </a:lnTo>
                <a:lnTo>
                  <a:pt x="115232" y="20200"/>
                </a:lnTo>
                <a:lnTo>
                  <a:pt x="115232" y="1400"/>
                </a:lnTo>
                <a:close/>
              </a:path>
              <a:path fill="darkenLess" w="116632" h="21600">
                <a:moveTo>
                  <a:pt x="116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232" y="20200"/>
                </a:lnTo>
                <a:close/>
              </a:path>
              <a:path fill="lighten" w="116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AutoShape 12">
            <a:hlinkClick r:id="rId4" action="ppaction://hlinksldjump"/>
          </p:cNvPr>
          <p:cNvSpPr/>
          <p:nvPr/>
        </p:nvSpPr>
        <p:spPr>
          <a:xfrm>
            <a:off x="4572000" y="449568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AutoShape 13">
            <a:hlinkClick r:id="rId5" action="ppaction://hlinksldjump"/>
          </p:cNvPr>
          <p:cNvSpPr/>
          <p:nvPr/>
        </p:nvSpPr>
        <p:spPr>
          <a:xfrm>
            <a:off x="4572000" y="367020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AutoShape 15">
            <a:hlinkClick r:id="rId6" action="ppaction://hlinksldjump"/>
          </p:cNvPr>
          <p:cNvSpPr/>
          <p:nvPr/>
        </p:nvSpPr>
        <p:spPr>
          <a:xfrm>
            <a:off x="4572000" y="5334120"/>
            <a:ext cx="4038480" cy="380880"/>
          </a:xfrm>
          <a:custGeom>
            <a:avLst/>
            <a:gdLst>
              <a:gd name="textAreaLeft" fmla="*/ 24480 w 4038480"/>
              <a:gd name="textAreaRight" fmla="*/ 4014000 w 4038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28829" h="21600">
                <a:moveTo>
                  <a:pt x="0" y="0"/>
                </a:moveTo>
                <a:lnTo>
                  <a:pt x="228829" y="0"/>
                </a:lnTo>
                <a:lnTo>
                  <a:pt x="228829" y="21600"/>
                </a:lnTo>
                <a:lnTo>
                  <a:pt x="0" y="21600"/>
                </a:lnTo>
                <a:close/>
              </a:path>
              <a:path fill="lightenLess" w="228829" h="21600">
                <a:moveTo>
                  <a:pt x="0" y="0"/>
                </a:moveTo>
                <a:lnTo>
                  <a:pt x="228829" y="0"/>
                </a:lnTo>
                <a:lnTo>
                  <a:pt x="227430" y="1400"/>
                </a:lnTo>
                <a:lnTo>
                  <a:pt x="1400" y="1400"/>
                </a:lnTo>
                <a:close/>
              </a:path>
              <a:path fill="darken" w="228829" h="21600">
                <a:moveTo>
                  <a:pt x="228829" y="0"/>
                </a:moveTo>
                <a:lnTo>
                  <a:pt x="228829" y="21600"/>
                </a:lnTo>
                <a:lnTo>
                  <a:pt x="227430" y="20200"/>
                </a:lnTo>
                <a:lnTo>
                  <a:pt x="227430" y="1400"/>
                </a:lnTo>
                <a:close/>
              </a:path>
              <a:path fill="darkenLess" w="228829" h="21600">
                <a:moveTo>
                  <a:pt x="2288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30" y="20200"/>
                </a:lnTo>
                <a:close/>
              </a:path>
              <a:path fill="lighten" w="2288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AutoShape 16">
            <a:hlinkClick r:id="rId7" action="ppaction://hlinksldjump"/>
          </p:cNvPr>
          <p:cNvSpPr/>
          <p:nvPr/>
        </p:nvSpPr>
        <p:spPr>
          <a:xfrm>
            <a:off x="4724280" y="5334120"/>
            <a:ext cx="4038840" cy="609480"/>
          </a:xfrm>
          <a:custGeom>
            <a:avLst/>
            <a:gdLst>
              <a:gd name="textAreaLeft" fmla="*/ 39240 w 4038840"/>
              <a:gd name="textAreaRight" fmla="*/ 3999600 w 4038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3065" h="21600">
                <a:moveTo>
                  <a:pt x="0" y="0"/>
                </a:moveTo>
                <a:lnTo>
                  <a:pt x="143065" y="0"/>
                </a:lnTo>
                <a:lnTo>
                  <a:pt x="143065" y="21600"/>
                </a:lnTo>
                <a:lnTo>
                  <a:pt x="0" y="21600"/>
                </a:lnTo>
                <a:close/>
              </a:path>
              <a:path fill="lightenLess" w="143065" h="21600">
                <a:moveTo>
                  <a:pt x="0" y="0"/>
                </a:moveTo>
                <a:lnTo>
                  <a:pt x="143065" y="0"/>
                </a:lnTo>
                <a:lnTo>
                  <a:pt x="141665" y="1400"/>
                </a:lnTo>
                <a:lnTo>
                  <a:pt x="1400" y="1400"/>
                </a:lnTo>
                <a:close/>
              </a:path>
              <a:path fill="darken" w="143065" h="21600">
                <a:moveTo>
                  <a:pt x="143065" y="0"/>
                </a:moveTo>
                <a:lnTo>
                  <a:pt x="143065" y="21600"/>
                </a:lnTo>
                <a:lnTo>
                  <a:pt x="141665" y="20200"/>
                </a:lnTo>
                <a:lnTo>
                  <a:pt x="141665" y="1400"/>
                </a:lnTo>
                <a:close/>
              </a:path>
              <a:path fill="darkenLess" w="143065" h="21600">
                <a:moveTo>
                  <a:pt x="143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65" y="20200"/>
                </a:lnTo>
                <a:close/>
              </a:path>
              <a:path fill="lighten" w="143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1142-9D45-4A0D-9945-692CCA41F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15" descr="C:\Instructional Technology\BCT689\PowerPoint\spss gifs\factorial anova\univarmain.gif"/>
          <p:cNvPicPr/>
          <p:nvPr/>
        </p:nvPicPr>
        <p:blipFill>
          <a:blip r:embed="rId1"/>
          <a:stretch/>
        </p:blipFill>
        <p:spPr>
          <a:xfrm>
            <a:off x="611280" y="2741760"/>
            <a:ext cx="3884400" cy="3203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List of Tutorial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572000" y="278136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file plots of estimated marginal me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572000" y="361332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 hoc tests for pairwise multiple compari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4572000" y="445140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tional descriptive and diagnostic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09480" y="19000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he box for the desired op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4572000" y="5292720"/>
            <a:ext cx="4191120" cy="45972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inue with the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1" name="Picture 10" descr="C:\Instructional Technology\BCT689\PowerPoint\spss gifs\factorial anova\explainopt.gif"/>
          <p:cNvPicPr/>
          <p:nvPr/>
        </p:nvPicPr>
        <p:blipFill>
          <a:blip r:embed="rId2"/>
          <a:stretch/>
        </p:blipFill>
        <p:spPr>
          <a:xfrm>
            <a:off x="1066680" y="4572000"/>
            <a:ext cx="3714840" cy="7207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1">
            <a:hlinkClick r:id="rId3" action="ppaction://hlinksldjump"/>
          </p:cNvPr>
          <p:cNvSpPr/>
          <p:nvPr/>
        </p:nvSpPr>
        <p:spPr>
          <a:xfrm>
            <a:off x="4572000" y="2819520"/>
            <a:ext cx="4191120" cy="76176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8795" h="21600">
                <a:moveTo>
                  <a:pt x="0" y="0"/>
                </a:moveTo>
                <a:lnTo>
                  <a:pt x="118795" y="0"/>
                </a:lnTo>
                <a:lnTo>
                  <a:pt x="118795" y="21600"/>
                </a:lnTo>
                <a:lnTo>
                  <a:pt x="0" y="21600"/>
                </a:lnTo>
                <a:close/>
              </a:path>
              <a:path fill="lightenLess" w="118795" h="21600">
                <a:moveTo>
                  <a:pt x="0" y="0"/>
                </a:moveTo>
                <a:lnTo>
                  <a:pt x="118795" y="0"/>
                </a:lnTo>
                <a:lnTo>
                  <a:pt x="117395" y="1400"/>
                </a:lnTo>
                <a:lnTo>
                  <a:pt x="1400" y="1400"/>
                </a:lnTo>
                <a:close/>
              </a:path>
              <a:path fill="darken" w="118795" h="21600">
                <a:moveTo>
                  <a:pt x="118795" y="0"/>
                </a:moveTo>
                <a:lnTo>
                  <a:pt x="118795" y="21600"/>
                </a:lnTo>
                <a:lnTo>
                  <a:pt x="117395" y="20200"/>
                </a:lnTo>
                <a:lnTo>
                  <a:pt x="117395" y="1400"/>
                </a:lnTo>
                <a:close/>
              </a:path>
              <a:path fill="darkenLess" w="118795" h="21600">
                <a:moveTo>
                  <a:pt x="11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95" y="20200"/>
                </a:lnTo>
                <a:close/>
              </a:path>
              <a:path fill="lighten" w="11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AutoShape 13">
            <a:hlinkClick r:id="rId4" action="ppaction://hlinksldjump"/>
          </p:cNvPr>
          <p:cNvSpPr/>
          <p:nvPr/>
        </p:nvSpPr>
        <p:spPr>
          <a:xfrm>
            <a:off x="4572000" y="3657600"/>
            <a:ext cx="4191120" cy="76212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39" h="21600">
                <a:moveTo>
                  <a:pt x="0" y="0"/>
                </a:moveTo>
                <a:lnTo>
                  <a:pt x="118739" y="0"/>
                </a:lnTo>
                <a:lnTo>
                  <a:pt x="118739" y="21600"/>
                </a:lnTo>
                <a:lnTo>
                  <a:pt x="0" y="21600"/>
                </a:lnTo>
                <a:close/>
              </a:path>
              <a:path fill="lightenLess" w="118739" h="21600">
                <a:moveTo>
                  <a:pt x="0" y="0"/>
                </a:moveTo>
                <a:lnTo>
                  <a:pt x="118739" y="0"/>
                </a:lnTo>
                <a:lnTo>
                  <a:pt x="117339" y="1400"/>
                </a:lnTo>
                <a:lnTo>
                  <a:pt x="1400" y="1400"/>
                </a:lnTo>
                <a:close/>
              </a:path>
              <a:path fill="darken" w="118739" h="21600">
                <a:moveTo>
                  <a:pt x="118739" y="0"/>
                </a:moveTo>
                <a:lnTo>
                  <a:pt x="118739" y="21600"/>
                </a:lnTo>
                <a:lnTo>
                  <a:pt x="117339" y="20200"/>
                </a:lnTo>
                <a:lnTo>
                  <a:pt x="117339" y="1400"/>
                </a:lnTo>
                <a:close/>
              </a:path>
              <a:path fill="darkenLess" w="118739" h="21600">
                <a:moveTo>
                  <a:pt x="118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39" y="20200"/>
                </a:lnTo>
                <a:close/>
              </a:path>
              <a:path fill="lighten" w="118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AutoShape 14">
            <a:hlinkClick r:id="rId5" action="ppaction://hlinksldjump"/>
          </p:cNvPr>
          <p:cNvSpPr/>
          <p:nvPr/>
        </p:nvSpPr>
        <p:spPr>
          <a:xfrm>
            <a:off x="4572000" y="4495680"/>
            <a:ext cx="4114800" cy="762120"/>
          </a:xfrm>
          <a:custGeom>
            <a:avLst/>
            <a:gdLst>
              <a:gd name="textAreaLeft" fmla="*/ 49320 w 4114800"/>
              <a:gd name="textAreaRight" fmla="*/ 4065480 w 4114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6577" h="21600">
                <a:moveTo>
                  <a:pt x="0" y="0"/>
                </a:moveTo>
                <a:lnTo>
                  <a:pt x="116577" y="0"/>
                </a:lnTo>
                <a:lnTo>
                  <a:pt x="116577" y="21600"/>
                </a:lnTo>
                <a:lnTo>
                  <a:pt x="0" y="21600"/>
                </a:lnTo>
                <a:close/>
              </a:path>
              <a:path fill="lightenLess" w="116577" h="21600">
                <a:moveTo>
                  <a:pt x="0" y="0"/>
                </a:moveTo>
                <a:lnTo>
                  <a:pt x="116577" y="0"/>
                </a:lnTo>
                <a:lnTo>
                  <a:pt x="115177" y="1400"/>
                </a:lnTo>
                <a:lnTo>
                  <a:pt x="1400" y="1400"/>
                </a:lnTo>
                <a:close/>
              </a:path>
              <a:path fill="darken" w="116577" h="21600">
                <a:moveTo>
                  <a:pt x="116577" y="0"/>
                </a:moveTo>
                <a:lnTo>
                  <a:pt x="116577" y="21600"/>
                </a:lnTo>
                <a:lnTo>
                  <a:pt x="115177" y="20200"/>
                </a:lnTo>
                <a:lnTo>
                  <a:pt x="115177" y="1400"/>
                </a:lnTo>
                <a:close/>
              </a:path>
              <a:path fill="darkenLess" w="116577" h="21600">
                <a:moveTo>
                  <a:pt x="11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77" y="20200"/>
                </a:lnTo>
                <a:close/>
              </a:path>
              <a:path fill="lighten" w="11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AutoShape 16">
            <a:hlinkClick r:id="rId6" action="ppaction://hlinksldjump"/>
          </p:cNvPr>
          <p:cNvSpPr/>
          <p:nvPr/>
        </p:nvSpPr>
        <p:spPr>
          <a:xfrm>
            <a:off x="4572000" y="5334120"/>
            <a:ext cx="4038480" cy="533160"/>
          </a:xfrm>
          <a:custGeom>
            <a:avLst/>
            <a:gdLst>
              <a:gd name="textAreaLeft" fmla="*/ 34560 w 4038480"/>
              <a:gd name="textAreaRight" fmla="*/ 4003920 w 4038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63516" h="21600">
                <a:moveTo>
                  <a:pt x="0" y="0"/>
                </a:moveTo>
                <a:lnTo>
                  <a:pt x="163516" y="0"/>
                </a:lnTo>
                <a:lnTo>
                  <a:pt x="163516" y="21600"/>
                </a:lnTo>
                <a:lnTo>
                  <a:pt x="0" y="21600"/>
                </a:lnTo>
                <a:close/>
              </a:path>
              <a:path fill="lightenLess" w="163516" h="21600">
                <a:moveTo>
                  <a:pt x="0" y="0"/>
                </a:moveTo>
                <a:lnTo>
                  <a:pt x="163516" y="0"/>
                </a:lnTo>
                <a:lnTo>
                  <a:pt x="162116" y="1400"/>
                </a:lnTo>
                <a:lnTo>
                  <a:pt x="1400" y="1400"/>
                </a:lnTo>
                <a:close/>
              </a:path>
              <a:path fill="darken" w="163516" h="21600">
                <a:moveTo>
                  <a:pt x="163516" y="0"/>
                </a:moveTo>
                <a:lnTo>
                  <a:pt x="163516" y="21600"/>
                </a:lnTo>
                <a:lnTo>
                  <a:pt x="162116" y="20200"/>
                </a:lnTo>
                <a:lnTo>
                  <a:pt x="162116" y="1400"/>
                </a:lnTo>
                <a:close/>
              </a:path>
              <a:path fill="darkenLess" w="163516" h="21600">
                <a:moveTo>
                  <a:pt x="163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116" y="20200"/>
                </a:lnTo>
                <a:close/>
              </a:path>
              <a:path fill="lighten" w="163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AutoShape 19">
            <a:hlinkClick r:id="rId7" action="ppaction://hlinksldjump"/>
          </p:cNvPr>
          <p:cNvSpPr/>
          <p:nvPr/>
        </p:nvSpPr>
        <p:spPr>
          <a:xfrm>
            <a:off x="4572000" y="5334120"/>
            <a:ext cx="4191120" cy="457200"/>
          </a:xfrm>
          <a:custGeom>
            <a:avLst/>
            <a:gdLst>
              <a:gd name="textAreaLeft" fmla="*/ 29520 w 4191120"/>
              <a:gd name="textAreaRight" fmla="*/ 4161600 w 4191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97867" h="21600">
                <a:moveTo>
                  <a:pt x="0" y="0"/>
                </a:moveTo>
                <a:lnTo>
                  <a:pt x="197867" y="0"/>
                </a:lnTo>
                <a:lnTo>
                  <a:pt x="197867" y="21600"/>
                </a:lnTo>
                <a:lnTo>
                  <a:pt x="0" y="21600"/>
                </a:lnTo>
                <a:close/>
              </a:path>
              <a:path fill="lightenLess" w="197867" h="21600">
                <a:moveTo>
                  <a:pt x="0" y="0"/>
                </a:moveTo>
                <a:lnTo>
                  <a:pt x="197867" y="0"/>
                </a:lnTo>
                <a:lnTo>
                  <a:pt x="196467" y="1400"/>
                </a:lnTo>
                <a:lnTo>
                  <a:pt x="1400" y="1400"/>
                </a:lnTo>
                <a:close/>
              </a:path>
              <a:path fill="darken" w="197867" h="21600">
                <a:moveTo>
                  <a:pt x="197867" y="0"/>
                </a:moveTo>
                <a:lnTo>
                  <a:pt x="197867" y="21600"/>
                </a:lnTo>
                <a:lnTo>
                  <a:pt x="196467" y="20200"/>
                </a:lnTo>
                <a:lnTo>
                  <a:pt x="196467" y="1400"/>
                </a:lnTo>
                <a:close/>
              </a:path>
              <a:path fill="darkenLess" w="197867" h="21600">
                <a:moveTo>
                  <a:pt x="1978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6467" y="20200"/>
                </a:lnTo>
                <a:close/>
              </a:path>
              <a:path fill="lighten" w="1978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2AE8-BB01-4B43-AFEF-5E375005A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9" name="Picture 8" descr="C:\Instructional Technology\BCT689\PowerPoint\spss gifs\factorial anova\univarmain.gif"/>
          <p:cNvPicPr/>
          <p:nvPr/>
        </p:nvPicPr>
        <p:blipFill>
          <a:blip r:embed="rId1"/>
          <a:stretch/>
        </p:blipFill>
        <p:spPr>
          <a:xfrm>
            <a:off x="611280" y="2284560"/>
            <a:ext cx="4433760" cy="36590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257800" y="2513160"/>
            <a:ext cx="3429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est profile plots of estimated marginal means by clicking the button labeled</a:t>
            </a:r>
            <a:br>
              <a:rPr sz="2800"/>
            </a:b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Plo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AutoShape 7">
            <a:hlinkClick r:id="" action="ppaction://hlinkshowjump?jump=nextslide"/>
          </p:cNvPr>
          <p:cNvSpPr/>
          <p:nvPr/>
        </p:nvSpPr>
        <p:spPr>
          <a:xfrm>
            <a:off x="4114800" y="316224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5DA9-2707-4C55-9A2D-28615D6C8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36" name="Picture 3" descr="FACANO3"/>
          <p:cNvPicPr/>
          <p:nvPr/>
        </p:nvPicPr>
        <p:blipFill>
          <a:blip r:embed="rId1"/>
          <a:stretch/>
        </p:blipFill>
        <p:spPr>
          <a:xfrm>
            <a:off x="4589640" y="2209680"/>
            <a:ext cx="4186080" cy="36608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609480" y="21924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requests both available profile plots,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der*resloc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loc*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609480" y="4159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the 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actor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AutoShape 7">
            <a:hlinkClick r:id="" action="ppaction://hlinkshowjump?jump=nextslide"/>
          </p:cNvPr>
          <p:cNvSpPr/>
          <p:nvPr/>
        </p:nvSpPr>
        <p:spPr>
          <a:xfrm>
            <a:off x="4724280" y="2819520"/>
            <a:ext cx="990720" cy="228600"/>
          </a:xfrm>
          <a:custGeom>
            <a:avLst/>
            <a:gdLst>
              <a:gd name="textAreaLeft" fmla="*/ 14760 w 990720"/>
              <a:gd name="textAreaRight" fmla="*/ 975960 w 9907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93498" h="21600">
                <a:moveTo>
                  <a:pt x="0" y="0"/>
                </a:moveTo>
                <a:lnTo>
                  <a:pt x="93498" y="0"/>
                </a:lnTo>
                <a:lnTo>
                  <a:pt x="93498" y="21600"/>
                </a:lnTo>
                <a:lnTo>
                  <a:pt x="0" y="21600"/>
                </a:lnTo>
                <a:close/>
              </a:path>
              <a:path fill="lightenLess" w="93498" h="21600">
                <a:moveTo>
                  <a:pt x="0" y="0"/>
                </a:moveTo>
                <a:lnTo>
                  <a:pt x="93498" y="0"/>
                </a:lnTo>
                <a:lnTo>
                  <a:pt x="92098" y="1400"/>
                </a:lnTo>
                <a:lnTo>
                  <a:pt x="1400" y="1400"/>
                </a:lnTo>
                <a:close/>
              </a:path>
              <a:path fill="darken" w="93498" h="21600">
                <a:moveTo>
                  <a:pt x="93498" y="0"/>
                </a:moveTo>
                <a:lnTo>
                  <a:pt x="93498" y="21600"/>
                </a:lnTo>
                <a:lnTo>
                  <a:pt x="92098" y="20200"/>
                </a:lnTo>
                <a:lnTo>
                  <a:pt x="92098" y="1400"/>
                </a:lnTo>
                <a:close/>
              </a:path>
              <a:path fill="darkenLess" w="93498" h="21600">
                <a:moveTo>
                  <a:pt x="93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098" y="20200"/>
                </a:lnTo>
                <a:close/>
              </a:path>
              <a:path fill="lighten" w="93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B3C2-71BB-449F-A61E-2646BC573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43" name="Picture 9" descr="FACPLOT1"/>
          <p:cNvPicPr/>
          <p:nvPr/>
        </p:nvPicPr>
        <p:blipFill>
          <a:blip r:embed="rId1"/>
          <a:stretch/>
        </p:blipFill>
        <p:spPr>
          <a:xfrm>
            <a:off x="4572000" y="2209680"/>
            <a:ext cx="4168800" cy="365616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10">
            <a:hlinkClick r:id="" action="ppaction://hlinkshowjump?jump=nextslide"/>
          </p:cNvPr>
          <p:cNvSpPr/>
          <p:nvPr/>
        </p:nvSpPr>
        <p:spPr>
          <a:xfrm>
            <a:off x="5943600" y="283212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611280" y="29703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H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rizontal Axi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F101-FF2C-4A7B-9B72-953ED13DB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49" name="Picture 10" descr="FACPLOT2"/>
          <p:cNvPicPr/>
          <p:nvPr/>
        </p:nvPicPr>
        <p:blipFill>
          <a:blip r:embed="rId1"/>
          <a:stretch/>
        </p:blipFill>
        <p:spPr>
          <a:xfrm>
            <a:off x="4589640" y="2192400"/>
            <a:ext cx="4186080" cy="36590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7"/>
          <p:cNvSpPr/>
          <p:nvPr/>
        </p:nvSpPr>
        <p:spPr>
          <a:xfrm>
            <a:off x="611280" y="29703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w 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actor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AutoShape 19">
            <a:hlinkClick r:id="" action="ppaction://hlinkshowjump?jump=nextslide"/>
          </p:cNvPr>
          <p:cNvSpPr/>
          <p:nvPr/>
        </p:nvSpPr>
        <p:spPr>
          <a:xfrm>
            <a:off x="4724280" y="3022560"/>
            <a:ext cx="990720" cy="228600"/>
          </a:xfrm>
          <a:custGeom>
            <a:avLst/>
            <a:gdLst>
              <a:gd name="textAreaLeft" fmla="*/ 14760 w 990720"/>
              <a:gd name="textAreaRight" fmla="*/ 975960 w 9907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93498" h="21600">
                <a:moveTo>
                  <a:pt x="0" y="0"/>
                </a:moveTo>
                <a:lnTo>
                  <a:pt x="93498" y="0"/>
                </a:lnTo>
                <a:lnTo>
                  <a:pt x="93498" y="21600"/>
                </a:lnTo>
                <a:lnTo>
                  <a:pt x="0" y="21600"/>
                </a:lnTo>
                <a:close/>
              </a:path>
              <a:path fill="lightenLess" w="93498" h="21600">
                <a:moveTo>
                  <a:pt x="0" y="0"/>
                </a:moveTo>
                <a:lnTo>
                  <a:pt x="93498" y="0"/>
                </a:lnTo>
                <a:lnTo>
                  <a:pt x="92098" y="1400"/>
                </a:lnTo>
                <a:lnTo>
                  <a:pt x="1400" y="1400"/>
                </a:lnTo>
                <a:close/>
              </a:path>
              <a:path fill="darken" w="93498" h="21600">
                <a:moveTo>
                  <a:pt x="93498" y="0"/>
                </a:moveTo>
                <a:lnTo>
                  <a:pt x="93498" y="21600"/>
                </a:lnTo>
                <a:lnTo>
                  <a:pt x="92098" y="20200"/>
                </a:lnTo>
                <a:lnTo>
                  <a:pt x="92098" y="1400"/>
                </a:lnTo>
                <a:close/>
              </a:path>
              <a:path fill="darkenLess" w="93498" h="21600">
                <a:moveTo>
                  <a:pt x="93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098" y="20200"/>
                </a:lnTo>
                <a:close/>
              </a:path>
              <a:path fill="lighten" w="93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3276-3D40-4243-80BD-1B09D80F9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55" name="Picture 10" descr="FACPLOT3"/>
          <p:cNvPicPr/>
          <p:nvPr/>
        </p:nvPicPr>
        <p:blipFill>
          <a:blip r:embed="rId1"/>
          <a:stretch/>
        </p:blipFill>
        <p:spPr>
          <a:xfrm>
            <a:off x="4586400" y="2192400"/>
            <a:ext cx="4176720" cy="36543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5"/>
          <p:cNvSpPr/>
          <p:nvPr/>
        </p:nvSpPr>
        <p:spPr>
          <a:xfrm>
            <a:off x="611280" y="29703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move it to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parate Lin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AutoShape 16">
            <a:hlinkClick r:id="" action="ppaction://hlinkshowjump?jump=nextslide"/>
          </p:cNvPr>
          <p:cNvSpPr/>
          <p:nvPr/>
        </p:nvSpPr>
        <p:spPr>
          <a:xfrm>
            <a:off x="5994360" y="330192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876D-8619-4689-A08F-DC1B27A8E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61" name="Picture 7" descr="C:\Instructional Technology\BCT689\PowerPoint\spss gifs\factorial anova\plot4.gif"/>
          <p:cNvPicPr/>
          <p:nvPr/>
        </p:nvPicPr>
        <p:blipFill>
          <a:blip r:embed="rId1"/>
          <a:stretch/>
        </p:blipFill>
        <p:spPr>
          <a:xfrm>
            <a:off x="4584600" y="2192400"/>
            <a:ext cx="4205520" cy="365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611280" y="29703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request the plo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AutoShape 9">
            <a:hlinkClick r:id="" action="ppaction://hlinkshowjump?jump=nextslide"/>
          </p:cNvPr>
          <p:cNvSpPr/>
          <p:nvPr/>
        </p:nvSpPr>
        <p:spPr>
          <a:xfrm>
            <a:off x="5257800" y="43434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7C96-F8E5-41D9-894C-D0A746998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67" name="Picture 9" descr="FACPLOT5"/>
          <p:cNvPicPr/>
          <p:nvPr/>
        </p:nvPicPr>
        <p:blipFill>
          <a:blip r:embed="rId1"/>
          <a:stretch/>
        </p:blipFill>
        <p:spPr>
          <a:xfrm>
            <a:off x="4583160" y="2192400"/>
            <a:ext cx="4205160" cy="365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3"/>
          <p:cNvSpPr/>
          <p:nvPr/>
        </p:nvSpPr>
        <p:spPr>
          <a:xfrm>
            <a:off x="611280" y="2635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request the plot of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loc*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611280" y="34732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the 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actor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AutoShape 15">
            <a:hlinkClick r:id="" action="ppaction://hlinkshowjump?jump=nextslide"/>
          </p:cNvPr>
          <p:cNvSpPr/>
          <p:nvPr/>
        </p:nvSpPr>
        <p:spPr>
          <a:xfrm>
            <a:off x="4724280" y="2971800"/>
            <a:ext cx="990720" cy="228600"/>
          </a:xfrm>
          <a:custGeom>
            <a:avLst/>
            <a:gdLst>
              <a:gd name="textAreaLeft" fmla="*/ 14760 w 990720"/>
              <a:gd name="textAreaRight" fmla="*/ 975960 w 9907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93498" h="21600">
                <a:moveTo>
                  <a:pt x="0" y="0"/>
                </a:moveTo>
                <a:lnTo>
                  <a:pt x="93498" y="0"/>
                </a:lnTo>
                <a:lnTo>
                  <a:pt x="93498" y="21600"/>
                </a:lnTo>
                <a:lnTo>
                  <a:pt x="0" y="21600"/>
                </a:lnTo>
                <a:close/>
              </a:path>
              <a:path fill="lightenLess" w="93498" h="21600">
                <a:moveTo>
                  <a:pt x="0" y="0"/>
                </a:moveTo>
                <a:lnTo>
                  <a:pt x="93498" y="0"/>
                </a:lnTo>
                <a:lnTo>
                  <a:pt x="92098" y="1400"/>
                </a:lnTo>
                <a:lnTo>
                  <a:pt x="1400" y="1400"/>
                </a:lnTo>
                <a:close/>
              </a:path>
              <a:path fill="darken" w="93498" h="21600">
                <a:moveTo>
                  <a:pt x="93498" y="0"/>
                </a:moveTo>
                <a:lnTo>
                  <a:pt x="93498" y="21600"/>
                </a:lnTo>
                <a:lnTo>
                  <a:pt x="92098" y="20200"/>
                </a:lnTo>
                <a:lnTo>
                  <a:pt x="92098" y="1400"/>
                </a:lnTo>
                <a:close/>
              </a:path>
              <a:path fill="darkenLess" w="93498" h="21600">
                <a:moveTo>
                  <a:pt x="93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098" y="20200"/>
                </a:lnTo>
                <a:close/>
              </a:path>
              <a:path fill="lighten" w="93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5864-D66B-4D05-B326-213BE4EC5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3" name="Picture 8" descr="C:\Instructional Technology\BCT689\PowerPoint\spss gifs\factorial anova\plot6.gif"/>
          <p:cNvPicPr/>
          <p:nvPr/>
        </p:nvPicPr>
        <p:blipFill>
          <a:blip r:embed="rId1"/>
          <a:stretch/>
        </p:blipFill>
        <p:spPr>
          <a:xfrm>
            <a:off x="4584600" y="2192400"/>
            <a:ext cx="4195800" cy="36478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75" name="AutoShape 6">
            <a:hlinkClick r:id="" action="ppaction://hlinkshowjump?jump=nextslide"/>
          </p:cNvPr>
          <p:cNvSpPr/>
          <p:nvPr/>
        </p:nvSpPr>
        <p:spPr>
          <a:xfrm>
            <a:off x="6006960" y="2755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611280" y="29703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H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rizontal Axi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4025-53B1-4BBB-AB20-D3358D957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65" name="AutoShape 1027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Text Box 1028"/>
          <p:cNvSpPr/>
          <p:nvPr/>
        </p:nvSpPr>
        <p:spPr>
          <a:xfrm>
            <a:off x="609480" y="1981080"/>
            <a:ext cx="8229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ependent variables (fixed factor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der: Gender of student (1 = female, 2 = mal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loc: Residency location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1 = in-state, 2 = out of stat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endent vari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mle2: USMLE Step 2 (continuou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Text Box 1029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AutoShape 1030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A1E8-F5A9-468F-8CAA-940B4C4DE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80" name="Picture 3" descr="FACPLOT2"/>
          <p:cNvPicPr/>
          <p:nvPr/>
        </p:nvPicPr>
        <p:blipFill>
          <a:blip r:embed="rId1"/>
          <a:stretch/>
        </p:blipFill>
        <p:spPr>
          <a:xfrm>
            <a:off x="4572000" y="2192400"/>
            <a:ext cx="4186080" cy="36590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611280" y="29703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w 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actor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AutoShape 7">
            <a:hlinkClick r:id="" action="ppaction://hlinkshowjump?jump=nextslide"/>
          </p:cNvPr>
          <p:cNvSpPr/>
          <p:nvPr/>
        </p:nvSpPr>
        <p:spPr>
          <a:xfrm>
            <a:off x="4726080" y="2819520"/>
            <a:ext cx="990360" cy="228600"/>
          </a:xfrm>
          <a:custGeom>
            <a:avLst/>
            <a:gdLst>
              <a:gd name="textAreaLeft" fmla="*/ 14760 w 990360"/>
              <a:gd name="textAreaRight" fmla="*/ 975600 w 9903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93464" h="21600">
                <a:moveTo>
                  <a:pt x="0" y="0"/>
                </a:moveTo>
                <a:lnTo>
                  <a:pt x="93464" y="0"/>
                </a:lnTo>
                <a:lnTo>
                  <a:pt x="93464" y="21600"/>
                </a:lnTo>
                <a:lnTo>
                  <a:pt x="0" y="21600"/>
                </a:lnTo>
                <a:close/>
              </a:path>
              <a:path fill="lightenLess" w="93464" h="21600">
                <a:moveTo>
                  <a:pt x="0" y="0"/>
                </a:moveTo>
                <a:lnTo>
                  <a:pt x="93464" y="0"/>
                </a:lnTo>
                <a:lnTo>
                  <a:pt x="92064" y="1400"/>
                </a:lnTo>
                <a:lnTo>
                  <a:pt x="1400" y="1400"/>
                </a:lnTo>
                <a:close/>
              </a:path>
              <a:path fill="darken" w="93464" h="21600">
                <a:moveTo>
                  <a:pt x="93464" y="0"/>
                </a:moveTo>
                <a:lnTo>
                  <a:pt x="93464" y="21600"/>
                </a:lnTo>
                <a:lnTo>
                  <a:pt x="92064" y="20200"/>
                </a:lnTo>
                <a:lnTo>
                  <a:pt x="92064" y="1400"/>
                </a:lnTo>
                <a:close/>
              </a:path>
              <a:path fill="darkenLess" w="93464" h="21600">
                <a:moveTo>
                  <a:pt x="93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064" y="20200"/>
                </a:lnTo>
                <a:close/>
              </a:path>
              <a:path fill="lighten" w="93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136C-FEA3-43FC-AC20-B02028450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5" name="Picture 10" descr="C:\Instructional Technology\BCT689\PowerPoint\spss gifs\factorial anova\plot8.gif"/>
          <p:cNvPicPr/>
          <p:nvPr/>
        </p:nvPicPr>
        <p:blipFill>
          <a:blip r:embed="rId1"/>
          <a:stretch/>
        </p:blipFill>
        <p:spPr>
          <a:xfrm>
            <a:off x="4579920" y="2192400"/>
            <a:ext cx="4195800" cy="36478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611280" y="29703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move it to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parate Lin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AutoShape 6">
            <a:hlinkClick r:id="" action="ppaction://hlinkshowjump?jump=nextslide"/>
          </p:cNvPr>
          <p:cNvSpPr/>
          <p:nvPr/>
        </p:nvSpPr>
        <p:spPr>
          <a:xfrm>
            <a:off x="5978520" y="328932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2D51-5ACC-495F-911D-30D35F06F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1" name="Picture 7" descr="C:\Instructional Technology\BCT689\PowerPoint\spss gifs\factorial anova\plot9.gif"/>
          <p:cNvPicPr/>
          <p:nvPr/>
        </p:nvPicPr>
        <p:blipFill>
          <a:blip r:embed="rId1"/>
          <a:stretch/>
        </p:blipFill>
        <p:spPr>
          <a:xfrm>
            <a:off x="4584600" y="2192400"/>
            <a:ext cx="4195800" cy="36478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11280" y="29703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request the plo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AutoShape 8">
            <a:hlinkClick r:id="" action="ppaction://hlinkshowjump?jump=nextslide"/>
          </p:cNvPr>
          <p:cNvSpPr/>
          <p:nvPr/>
        </p:nvSpPr>
        <p:spPr>
          <a:xfrm>
            <a:off x="5272200" y="43434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D1D9-51C9-4944-A3DA-7FE464E22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11280" y="2970360"/>
            <a:ext cx="289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Continu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9" name="Picture 7" descr="C:\Instructional Technology\BCT689\PowerPoint\spss gifs\factorial anova\plot10.gif"/>
          <p:cNvPicPr/>
          <p:nvPr/>
        </p:nvPicPr>
        <p:blipFill>
          <a:blip r:embed="rId1"/>
          <a:stretch/>
        </p:blipFill>
        <p:spPr>
          <a:xfrm>
            <a:off x="4584600" y="2286000"/>
            <a:ext cx="4195800" cy="364824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8">
            <a:hlinkClick r:id="rId2" action="ppaction://hlinksldjump"/>
          </p:cNvPr>
          <p:cNvSpPr/>
          <p:nvPr/>
        </p:nvSpPr>
        <p:spPr>
          <a:xfrm>
            <a:off x="7710480" y="268452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8956-C069-4C74-BDD1-6290EE492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ost Hoc Multipl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304" name="Picture 5" descr="C:\Instructional Technology\BCT689\PowerPoint\spss gifs\factorial anova\POSTHOC1.TIF"/>
          <p:cNvPicPr/>
          <p:nvPr/>
        </p:nvPicPr>
        <p:blipFill>
          <a:blip r:embed="rId1"/>
          <a:stretch/>
        </p:blipFill>
        <p:spPr>
          <a:xfrm>
            <a:off x="684360" y="2286000"/>
            <a:ext cx="4451040" cy="36529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5483160" y="2284560"/>
            <a:ext cx="297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5483160" y="440388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The factors in this analysis--</a:t>
            </a:r>
            <a:r>
              <a:rPr b="0" lang="en-US" sz="1900" spc="-1" strike="noStrike">
                <a:solidFill>
                  <a:srgbClr val="eaeaea"/>
                </a:solidFill>
                <a:latin typeface="Arial"/>
              </a:rPr>
              <a:t>gender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0" lang="en-US" sz="1900" spc="-1" strike="noStrike">
                <a:solidFill>
                  <a:srgbClr val="eaeaea"/>
                </a:solidFill>
                <a:latin typeface="Arial"/>
              </a:rPr>
              <a:t>resloc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--each have only two categories, so post hoc option is explained  only for tutorial purposes.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5483160" y="2286000"/>
            <a:ext cx="343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request post hoc tests for pairwise multiple comparisons, 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Pos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H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c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AutoShape 10">
            <a:hlinkClick r:id="" action="ppaction://hlinkshowjump?jump=nextslide"/>
          </p:cNvPr>
          <p:cNvSpPr/>
          <p:nvPr/>
        </p:nvSpPr>
        <p:spPr>
          <a:xfrm>
            <a:off x="4267080" y="350532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CB54-0C42-45B4-AB07-B9724F3A1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ost Hoc Multipl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312" name="Picture 6" descr="C:\Instructional Technology\BCT689\PowerPoint\spss gifs\factorial anova\posthoc1.gif"/>
          <p:cNvPicPr/>
          <p:nvPr/>
        </p:nvPicPr>
        <p:blipFill>
          <a:blip r:embed="rId1"/>
          <a:stretch/>
        </p:blipFill>
        <p:spPr>
          <a:xfrm>
            <a:off x="4113360" y="228600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"/>
          <p:cNvSpPr/>
          <p:nvPr/>
        </p:nvSpPr>
        <p:spPr>
          <a:xfrm>
            <a:off x="609480" y="258912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example requests tests for 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609480" y="40384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the </a:t>
            </a:r>
            <a:br>
              <a:rPr sz="2800"/>
            </a:b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tor(s)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AutoShape 9">
            <a:hlinkClick r:id="" action="ppaction://hlinkshowjump?jump=nextslide"/>
          </p:cNvPr>
          <p:cNvSpPr/>
          <p:nvPr/>
        </p:nvSpPr>
        <p:spPr>
          <a:xfrm>
            <a:off x="4267080" y="2819520"/>
            <a:ext cx="1524240" cy="228600"/>
          </a:xfrm>
          <a:custGeom>
            <a:avLst/>
            <a:gdLst>
              <a:gd name="textAreaLeft" fmla="*/ 14760 w 1524240"/>
              <a:gd name="textAreaRight" fmla="*/ 1509480 w 1524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43830" h="21600">
                <a:moveTo>
                  <a:pt x="0" y="0"/>
                </a:moveTo>
                <a:lnTo>
                  <a:pt x="143830" y="0"/>
                </a:lnTo>
                <a:lnTo>
                  <a:pt x="143830" y="21600"/>
                </a:lnTo>
                <a:lnTo>
                  <a:pt x="0" y="21600"/>
                </a:lnTo>
                <a:close/>
              </a:path>
              <a:path fill="lightenLess" w="143830" h="21600">
                <a:moveTo>
                  <a:pt x="0" y="0"/>
                </a:moveTo>
                <a:lnTo>
                  <a:pt x="143830" y="0"/>
                </a:lnTo>
                <a:lnTo>
                  <a:pt x="142430" y="1400"/>
                </a:lnTo>
                <a:lnTo>
                  <a:pt x="1400" y="1400"/>
                </a:lnTo>
                <a:close/>
              </a:path>
              <a:path fill="darken" w="143830" h="21600">
                <a:moveTo>
                  <a:pt x="143830" y="0"/>
                </a:moveTo>
                <a:lnTo>
                  <a:pt x="143830" y="21600"/>
                </a:lnTo>
                <a:lnTo>
                  <a:pt x="142430" y="20200"/>
                </a:lnTo>
                <a:lnTo>
                  <a:pt x="142430" y="1400"/>
                </a:lnTo>
                <a:close/>
              </a:path>
              <a:path fill="darkenLess" w="143830" h="21600">
                <a:moveTo>
                  <a:pt x="143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30" y="20200"/>
                </a:lnTo>
                <a:close/>
              </a:path>
              <a:path fill="lighten" w="143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4E89-9B7F-4572-841C-75C88AC7F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ost Hoc Multipl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611280" y="2970360"/>
            <a:ext cx="3429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st Hoc Tests for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0" name="Picture 9" descr="C:\Instructional Technology\BCT689\PowerPoint\spss gifs\factorial anova\posthoc2.gif"/>
          <p:cNvPicPr/>
          <p:nvPr/>
        </p:nvPicPr>
        <p:blipFill>
          <a:blip r:embed="rId1"/>
          <a:srcRect l="0" t="47" r="0" b="0"/>
          <a:stretch/>
        </p:blipFill>
        <p:spPr>
          <a:xfrm>
            <a:off x="4113360" y="2286000"/>
            <a:ext cx="4662360" cy="342432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10">
            <a:hlinkClick r:id="" action="ppaction://hlinkshowjump?jump=nextslide"/>
          </p:cNvPr>
          <p:cNvSpPr/>
          <p:nvPr/>
        </p:nvSpPr>
        <p:spPr>
          <a:xfrm>
            <a:off x="5867280" y="302256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A7BB-DB7C-40CD-9843-15E420CB5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ost Hoc Multipl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611280" y="228456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est multiple comparison test(s) by clicking in the corresponding check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609480" y="46162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this tutorial, 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B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nferron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7" name="Picture 12" descr="C:\Instructional Technology\BCT689\PowerPoint\spss gifs\factorial anova\posthoc3.gif"/>
          <p:cNvPicPr/>
          <p:nvPr/>
        </p:nvPicPr>
        <p:blipFill>
          <a:blip r:embed="rId1"/>
          <a:stretch/>
        </p:blipFill>
        <p:spPr>
          <a:xfrm>
            <a:off x="4113360" y="2284560"/>
            <a:ext cx="4698720" cy="342576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13">
            <a:hlinkClick r:id="" action="ppaction://hlinkshowjump?jump=nextslide"/>
          </p:cNvPr>
          <p:cNvSpPr/>
          <p:nvPr/>
        </p:nvSpPr>
        <p:spPr>
          <a:xfrm>
            <a:off x="4305240" y="405144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0FE7-D48B-4E53-9BF6-4DEC23782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ost Hoc Multipl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611280" y="228456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SPSS, you can request as many multiple comparison tests as you wan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3" name="Picture 7" descr="C:\Instructional Technology\BCT689\PowerPoint\spss gifs\factorial anova\posthoc5.gif"/>
          <p:cNvPicPr/>
          <p:nvPr/>
        </p:nvPicPr>
        <p:blipFill>
          <a:blip r:embed="rId1"/>
          <a:stretch/>
        </p:blipFill>
        <p:spPr>
          <a:xfrm>
            <a:off x="4113360" y="2284560"/>
            <a:ext cx="4706640" cy="34318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8"/>
          <p:cNvSpPr/>
          <p:nvPr/>
        </p:nvSpPr>
        <p:spPr>
          <a:xfrm>
            <a:off x="609480" y="419112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ntinue the tutorial, 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Continu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AutoShape 9">
            <a:hlinkClick r:id="rId2" action="ppaction://hlinksldjump"/>
          </p:cNvPr>
          <p:cNvSpPr/>
          <p:nvPr/>
        </p:nvSpPr>
        <p:spPr>
          <a:xfrm>
            <a:off x="7988400" y="269244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B2C6-C776-48FE-8293-BCEE118FC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167616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al Descriptive and Diagnosti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tistic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339" name="Picture 4" descr="C:\Instructional Technology\BCT689\PowerPoint\spss gifs\factorial anova\POSTHOC1.TIF"/>
          <p:cNvPicPr/>
          <p:nvPr/>
        </p:nvPicPr>
        <p:blipFill>
          <a:blip r:embed="rId1"/>
          <a:stretch/>
        </p:blipFill>
        <p:spPr>
          <a:xfrm>
            <a:off x="684360" y="2286000"/>
            <a:ext cx="4451040" cy="3652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5483160" y="2284560"/>
            <a:ext cx="297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5483160" y="2286000"/>
            <a:ext cx="3432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display estimated marginal means, parameter estimates,  and descriptive and diagnostic statistics, and or to change the alpha level, click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ptions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AutoShape 10">
            <a:hlinkClick r:id="" action="ppaction://hlinkshowjump?jump=nextslide"/>
          </p:cNvPr>
          <p:cNvSpPr/>
          <p:nvPr/>
        </p:nvSpPr>
        <p:spPr>
          <a:xfrm>
            <a:off x="4267080" y="406404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271D-6BA0-471B-9CDA-24918D42C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1" name="Picture 39" descr="C:\Instructional Technology\BCT689\PowerPoint\analyze1.gif"/>
          <p:cNvPicPr/>
          <p:nvPr/>
        </p:nvPicPr>
        <p:blipFill>
          <a:blip r:embed="rId1"/>
          <a:stretch/>
        </p:blipFill>
        <p:spPr>
          <a:xfrm>
            <a:off x="4799160" y="2741760"/>
            <a:ext cx="3966840" cy="1844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762120" y="27417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AutoShape 36">
            <a:hlinkClick r:id="" action="ppaction://hlinkshowjump?jump=nextslide"/>
          </p:cNvPr>
          <p:cNvSpPr/>
          <p:nvPr/>
        </p:nvSpPr>
        <p:spPr>
          <a:xfrm>
            <a:off x="4800600" y="27432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CE05-7EE6-461D-8889-ED25F16C1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609480" y="21924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can request an overall (grand) marginal mean, as well as marginal means for the factors and the interaction(s)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7" name="Picture 8" descr="C:\BCT 689\PowerPoint\spss gifs\factorial anova\options1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48040" cy="36543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9"/>
          <p:cNvSpPr/>
          <p:nvPr/>
        </p:nvSpPr>
        <p:spPr>
          <a:xfrm>
            <a:off x="609480" y="46465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select all of these at once, first 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[OVERALL]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AutoShape 10">
            <a:hlinkClick r:id="" action="ppaction://hlinkshowjump?jump=nextslide"/>
          </p:cNvPr>
          <p:cNvSpPr/>
          <p:nvPr/>
        </p:nvSpPr>
        <p:spPr>
          <a:xfrm>
            <a:off x="5029200" y="2959200"/>
            <a:ext cx="609480" cy="152280"/>
          </a:xfrm>
          <a:custGeom>
            <a:avLst/>
            <a:gdLst>
              <a:gd name="textAreaLeft" fmla="*/ 9720 w 609480"/>
              <a:gd name="textAreaRight" fmla="*/ 599760 w 6094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959B-BA5F-4121-8A98-DA9699074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2" name="Picture 1033" descr="C:\BCT 689\PowerPoint\spss gifs\factorial anova\options2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8320" cy="365256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54" name="Text Box 1028"/>
          <p:cNvSpPr/>
          <p:nvPr/>
        </p:nvSpPr>
        <p:spPr>
          <a:xfrm>
            <a:off x="609480" y="274176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ld the 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Shif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(on the keyboard) and click 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gender*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select the entire li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AutoShape 1034">
            <a:hlinkClick r:id="" action="ppaction://hlinkshowjump?jump=nextslide"/>
          </p:cNvPr>
          <p:cNvSpPr/>
          <p:nvPr/>
        </p:nvSpPr>
        <p:spPr>
          <a:xfrm>
            <a:off x="5016600" y="3314880"/>
            <a:ext cx="761760" cy="152280"/>
          </a:xfrm>
          <a:custGeom>
            <a:avLst/>
            <a:gdLst>
              <a:gd name="textAreaLeft" fmla="*/ 9720 w 761760"/>
              <a:gd name="textAreaRight" fmla="*/ 752040 w 76176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6447" y="1400"/>
                </a:lnTo>
                <a:lnTo>
                  <a:pt x="1400" y="1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6447" y="20200"/>
                </a:lnTo>
                <a:lnTo>
                  <a:pt x="106447" y="1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47" y="20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1229-B94B-4001-8325-E0DF89C3A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8" name="Picture 8" descr="C:\BCT 689\PowerPoint\spss gifs\factorial anova\options3gif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11320" cy="36543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059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09480" y="274176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arrow to move the factors and factor interaction terms to the 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Display 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</a:rPr>
              <a:t>M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eans for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AutoShape 10">
            <a:hlinkClick r:id="" action="ppaction://hlinkshowjump?jump=nextslide"/>
          </p:cNvPr>
          <p:cNvSpPr/>
          <p:nvPr/>
        </p:nvSpPr>
        <p:spPr>
          <a:xfrm>
            <a:off x="6540480" y="3022560"/>
            <a:ext cx="304920" cy="3682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68280"/>
              <a:gd name="textAreaBottom" fmla="*/ 348840 h 368280"/>
            </a:gdLst>
            <a:ahLst/>
            <a:rect l="textAreaLeft" t="textAreaTop" r="textAreaRight" b="textAreaBottom"/>
            <a:pathLst>
              <a:path w="21600" h="26083">
                <a:moveTo>
                  <a:pt x="0" y="0"/>
                </a:moveTo>
                <a:lnTo>
                  <a:pt x="21600" y="0"/>
                </a:lnTo>
                <a:lnTo>
                  <a:pt x="21600" y="26083"/>
                </a:lnTo>
                <a:lnTo>
                  <a:pt x="0" y="26083"/>
                </a:lnTo>
                <a:close/>
              </a:path>
              <a:path fill="lightenLess" w="21600" h="260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83">
                <a:moveTo>
                  <a:pt x="21600" y="0"/>
                </a:moveTo>
                <a:lnTo>
                  <a:pt x="21600" y="26083"/>
                </a:lnTo>
                <a:lnTo>
                  <a:pt x="20200" y="24683"/>
                </a:lnTo>
                <a:lnTo>
                  <a:pt x="20200" y="1400"/>
                </a:lnTo>
                <a:close/>
              </a:path>
              <a:path fill="darkenLess" w="21600" h="26083">
                <a:moveTo>
                  <a:pt x="21600" y="26083"/>
                </a:moveTo>
                <a:lnTo>
                  <a:pt x="0" y="26083"/>
                </a:lnTo>
                <a:lnTo>
                  <a:pt x="1400" y="24683"/>
                </a:lnTo>
                <a:lnTo>
                  <a:pt x="20200" y="24683"/>
                </a:lnTo>
                <a:close/>
              </a:path>
              <a:path fill="lighten" w="21600" h="26083">
                <a:moveTo>
                  <a:pt x="0" y="260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7766-4342-43CC-A435-9B747CB3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059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365" name="Picture 1033" descr="C:\Instructional Technology\BCT689\PowerPoint\spss gifs\factorial anova\options4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8320" cy="365436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36"/>
          <p:cNvSpPr/>
          <p:nvPr/>
        </p:nvSpPr>
        <p:spPr>
          <a:xfrm>
            <a:off x="609480" y="22860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SPSS, you can display information by right-clicking, but right-clicking doesn’t work in this tutoria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Text Box 1037"/>
          <p:cNvSpPr/>
          <p:nvPr/>
        </p:nvSpPr>
        <p:spPr>
          <a:xfrm>
            <a:off x="609480" y="45720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see what right-clicking would show,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click </a:t>
            </a:r>
            <a:br>
              <a:rPr sz="2800"/>
            </a:b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ompare main effect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AutoShape 1038">
            <a:hlinkClick r:id="" action="ppaction://hlinkshowjump?jump=nextslide"/>
          </p:cNvPr>
          <p:cNvSpPr/>
          <p:nvPr/>
        </p:nvSpPr>
        <p:spPr>
          <a:xfrm>
            <a:off x="6858000" y="3505320"/>
            <a:ext cx="1219320" cy="228600"/>
          </a:xfrm>
          <a:custGeom>
            <a:avLst/>
            <a:gdLst>
              <a:gd name="textAreaLeft" fmla="*/ 14760 w 1219320"/>
              <a:gd name="textAreaRight" fmla="*/ 1204560 w 12193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15064" h="21600">
                <a:moveTo>
                  <a:pt x="0" y="0"/>
                </a:moveTo>
                <a:lnTo>
                  <a:pt x="115064" y="0"/>
                </a:lnTo>
                <a:lnTo>
                  <a:pt x="115064" y="21600"/>
                </a:lnTo>
                <a:lnTo>
                  <a:pt x="0" y="21600"/>
                </a:lnTo>
                <a:close/>
              </a:path>
              <a:path fill="lightenLess" w="115064" h="21600">
                <a:moveTo>
                  <a:pt x="0" y="0"/>
                </a:moveTo>
                <a:lnTo>
                  <a:pt x="115064" y="0"/>
                </a:lnTo>
                <a:lnTo>
                  <a:pt x="113664" y="1400"/>
                </a:lnTo>
                <a:lnTo>
                  <a:pt x="1400" y="1400"/>
                </a:lnTo>
                <a:close/>
              </a:path>
              <a:path fill="darken" w="115064" h="21600">
                <a:moveTo>
                  <a:pt x="115064" y="0"/>
                </a:moveTo>
                <a:lnTo>
                  <a:pt x="115064" y="21600"/>
                </a:lnTo>
                <a:lnTo>
                  <a:pt x="113664" y="20200"/>
                </a:lnTo>
                <a:lnTo>
                  <a:pt x="113664" y="1400"/>
                </a:lnTo>
                <a:close/>
              </a:path>
              <a:path fill="darkenLess" w="115064" h="21600">
                <a:moveTo>
                  <a:pt x="1150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64" y="20200"/>
                </a:lnTo>
                <a:close/>
              </a:path>
              <a:path fill="lighten" w="1150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B208-B512-44DB-B94B-774D94A19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372" name="Picture 7" descr="C:\Instructional Technology\BCT689\PowerPoint\spss gifs\factorial anova\options4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8320" cy="36543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8"/>
          <p:cNvSpPr/>
          <p:nvPr/>
        </p:nvSpPr>
        <p:spPr>
          <a:xfrm>
            <a:off x="609480" y="274176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checkbox f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ompare main effect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4" name="Picture 9" descr="C:\Instructional Technology\BCT689\PowerPoint\spss gifs\factorial anova\options4a.gif"/>
          <p:cNvPicPr/>
          <p:nvPr/>
        </p:nvPicPr>
        <p:blipFill>
          <a:blip r:embed="rId2"/>
          <a:stretch/>
        </p:blipFill>
        <p:spPr>
          <a:xfrm>
            <a:off x="4876920" y="3733920"/>
            <a:ext cx="3679560" cy="63972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10">
            <a:hlinkClick r:id="" action="ppaction://hlinkshowjump?jump=nextslide"/>
          </p:cNvPr>
          <p:cNvSpPr/>
          <p:nvPr/>
        </p:nvSpPr>
        <p:spPr>
          <a:xfrm>
            <a:off x="6845400" y="350532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53A9-4E4E-4FE0-BD94-CD0193737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609480" y="2286000"/>
            <a:ext cx="373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can change the method used for confidence interval adjustments by selecting from the drop-down lis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0" name="Picture 8" descr="C:\Instructional Technology\BCT689\PowerPoint\spss gifs\factorial anova\options5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0400" cy="36637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9"/>
          <p:cNvSpPr/>
          <p:nvPr/>
        </p:nvSpPr>
        <p:spPr>
          <a:xfrm>
            <a:off x="609480" y="449568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drop-down arrow for 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Co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</a:rPr>
              <a:t>n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fidence interval adjustm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AutoShape 10">
            <a:hlinkClick r:id="" action="ppaction://hlinkshowjump?jump=nextslide"/>
          </p:cNvPr>
          <p:cNvSpPr/>
          <p:nvPr/>
        </p:nvSpPr>
        <p:spPr>
          <a:xfrm>
            <a:off x="8153280" y="3886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7D0B-7537-4AD9-BD4D-9B9A3CFC3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609480" y="2741760"/>
            <a:ext cx="373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will use the default method, so click elsewhere on the window to close the drop-down men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7" name="Picture 7" descr="C:\Instructional Technology\BCT689\PowerPoint\spss gifs\factorial anova\options5a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0400" cy="366372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8">
            <a:hlinkClick r:id="" action="ppaction://hlinkshowjump?jump=nextslide"/>
          </p:cNvPr>
          <p:cNvSpPr/>
          <p:nvPr/>
        </p:nvSpPr>
        <p:spPr>
          <a:xfrm>
            <a:off x="4800600" y="2286000"/>
            <a:ext cx="3962520" cy="3733920"/>
          </a:xfrm>
          <a:custGeom>
            <a:avLst/>
            <a:gdLst>
              <a:gd name="textAreaLeft" fmla="*/ 241920 w 3962520"/>
              <a:gd name="textAreaRight" fmla="*/ 3720600 w 3962520"/>
              <a:gd name="textAreaTop" fmla="*/ 241920 h 3733920"/>
              <a:gd name="textAreaBottom" fmla="*/ 3492000 h 3733920"/>
            </a:gdLst>
            <a:ahLst/>
            <a:rect l="textAreaLeft" t="textAreaTop" r="textAreaRight" b="textAreaBottom"/>
            <a:pathLst>
              <a:path w="22922" h="21600">
                <a:moveTo>
                  <a:pt x="0" y="0"/>
                </a:moveTo>
                <a:lnTo>
                  <a:pt x="22922" y="0"/>
                </a:lnTo>
                <a:lnTo>
                  <a:pt x="22922" y="21600"/>
                </a:lnTo>
                <a:lnTo>
                  <a:pt x="0" y="21600"/>
                </a:lnTo>
                <a:close/>
              </a:path>
              <a:path fill="lightenLess" w="22922" h="21600">
                <a:moveTo>
                  <a:pt x="0" y="0"/>
                </a:moveTo>
                <a:lnTo>
                  <a:pt x="22922" y="0"/>
                </a:lnTo>
                <a:lnTo>
                  <a:pt x="21522" y="1400"/>
                </a:lnTo>
                <a:lnTo>
                  <a:pt x="1400" y="1400"/>
                </a:lnTo>
                <a:close/>
              </a:path>
              <a:path fill="darken" w="22922" h="21600">
                <a:moveTo>
                  <a:pt x="22922" y="0"/>
                </a:moveTo>
                <a:lnTo>
                  <a:pt x="22922" y="21600"/>
                </a:lnTo>
                <a:lnTo>
                  <a:pt x="21522" y="20200"/>
                </a:lnTo>
                <a:lnTo>
                  <a:pt x="21522" y="1400"/>
                </a:lnTo>
                <a:close/>
              </a:path>
              <a:path fill="darkenLess" w="22922" h="21600">
                <a:moveTo>
                  <a:pt x="22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2" y="20200"/>
                </a:lnTo>
                <a:close/>
              </a:path>
              <a:path fill="lighten" w="22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BA20-52C9-4B80-A9D2-AC2779362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392" name="Picture 6" descr="C:\Instructional Technology\BCT689\PowerPoint\spss gifs\factorial anova\options5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0400" cy="366372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7"/>
          <p:cNvSpPr/>
          <p:nvPr/>
        </p:nvSpPr>
        <p:spPr>
          <a:xfrm>
            <a:off x="609480" y="274176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est other options by clicking the appropriate  check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609480" y="43117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Displ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rea, click the checkbox f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De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</a:rPr>
              <a:t>s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criptive statistic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AutoShape 10">
            <a:hlinkClick r:id="" action="ppaction://hlinkshowjump?jump=nextslide"/>
          </p:cNvPr>
          <p:cNvSpPr/>
          <p:nvPr/>
        </p:nvSpPr>
        <p:spPr>
          <a:xfrm>
            <a:off x="4952880" y="4343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A0D8-657D-422B-97D9-30FF3AFF6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609480" y="274176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the one f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</a:rPr>
              <a:t>H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omogeneity test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0" name="Picture 7" descr="C:\Instructional Technology\BCT689\PowerPoint\spss gifs\factorial anova\options6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8320" cy="365436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8">
            <a:hlinkClick r:id="" action="ppaction://hlinkshowjump?jump=nextslide"/>
          </p:cNvPr>
          <p:cNvSpPr/>
          <p:nvPr/>
        </p:nvSpPr>
        <p:spPr>
          <a:xfrm>
            <a:off x="6858000" y="4343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07FE-3EC4-4A54-BE95-4FDC5AFDB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09480" y="274176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uses no more options, so click th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Continu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6" name="Picture 6" descr="C:\Instructional Technology\BCT689\PowerPoint\spss gifs\factorial anova\options7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8320" cy="365256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7">
            <a:hlinkClick r:id="rId2" action="ppaction://hlinksldjump"/>
          </p:cNvPr>
          <p:cNvSpPr/>
          <p:nvPr/>
        </p:nvSpPr>
        <p:spPr>
          <a:xfrm>
            <a:off x="6705720" y="55627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BE07-B30B-4E04-997F-DBCC9DD4A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7" name="Picture 13" descr="C:\Instructional Technology\BCT689\PowerPoint\analyze2.gif"/>
          <p:cNvPicPr/>
          <p:nvPr/>
        </p:nvPicPr>
        <p:blipFill>
          <a:blip r:embed="rId1"/>
          <a:stretch/>
        </p:blipFill>
        <p:spPr>
          <a:xfrm>
            <a:off x="4799160" y="2741760"/>
            <a:ext cx="4059000" cy="1847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neral Linear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AutoShape 10">
            <a:hlinkClick r:id="" action="ppaction://hlinkshowjump?jump=nextslide"/>
          </p:cNvPr>
          <p:cNvSpPr/>
          <p:nvPr/>
        </p:nvSpPr>
        <p:spPr>
          <a:xfrm>
            <a:off x="5029200" y="3645000"/>
            <a:ext cx="1752480" cy="304560"/>
          </a:xfrm>
          <a:custGeom>
            <a:avLst/>
            <a:gdLst>
              <a:gd name="textAreaLeft" fmla="*/ 19440 w 1752480"/>
              <a:gd name="textAreaRight" fmla="*/ 1733040 w 1752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24168" h="21600">
                <a:moveTo>
                  <a:pt x="0" y="0"/>
                </a:moveTo>
                <a:lnTo>
                  <a:pt x="124168" y="0"/>
                </a:lnTo>
                <a:lnTo>
                  <a:pt x="124168" y="21600"/>
                </a:lnTo>
                <a:lnTo>
                  <a:pt x="0" y="21600"/>
                </a:lnTo>
                <a:close/>
              </a:path>
              <a:path fill="lightenLess" w="124168" h="21600">
                <a:moveTo>
                  <a:pt x="0" y="0"/>
                </a:moveTo>
                <a:lnTo>
                  <a:pt x="124168" y="0"/>
                </a:lnTo>
                <a:lnTo>
                  <a:pt x="122768" y="1400"/>
                </a:lnTo>
                <a:lnTo>
                  <a:pt x="1400" y="1400"/>
                </a:lnTo>
                <a:close/>
              </a:path>
              <a:path fill="darken" w="124168" h="21600">
                <a:moveTo>
                  <a:pt x="124168" y="0"/>
                </a:moveTo>
                <a:lnTo>
                  <a:pt x="124168" y="21600"/>
                </a:lnTo>
                <a:lnTo>
                  <a:pt x="122768" y="20200"/>
                </a:lnTo>
                <a:lnTo>
                  <a:pt x="122768" y="1400"/>
                </a:lnTo>
                <a:close/>
              </a:path>
              <a:path fill="darkenLess" w="124168" h="21600">
                <a:moveTo>
                  <a:pt x="124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8" y="20200"/>
                </a:lnTo>
                <a:close/>
              </a:path>
              <a:path fill="lighten" w="124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C21B-6C5B-4171-B14C-9A2AF065B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un the analysi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4120" y="312264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run the Factorial ANO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AutoShape 4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3" name="Picture 5" descr="C:\Instructional Technology\BCT689\PowerPoint\spss gifs\factorial anova\univarmain.gif"/>
          <p:cNvPicPr/>
          <p:nvPr/>
        </p:nvPicPr>
        <p:blipFill>
          <a:blip r:embed="rId1"/>
          <a:stretch/>
        </p:blipFill>
        <p:spPr>
          <a:xfrm>
            <a:off x="611280" y="2284560"/>
            <a:ext cx="4433760" cy="365904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6">
            <a:hlinkClick r:id="rId2" action="ppaction://hlinksldjump"/>
          </p:cNvPr>
          <p:cNvSpPr/>
          <p:nvPr/>
        </p:nvSpPr>
        <p:spPr>
          <a:xfrm>
            <a:off x="1297080" y="55656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6F0B-2F3E-4A85-87B1-DDBBE2558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 Output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Warnings and General Informa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18" name="AutoShape 4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9" name="Picture 9" descr="C:\Instructional Technology\BCT689\PowerPoint\spss gifs\factorial anova\output1.gif"/>
          <p:cNvPicPr/>
          <p:nvPr/>
        </p:nvPicPr>
        <p:blipFill>
          <a:blip r:embed="rId1"/>
          <a:stretch/>
        </p:blipFill>
        <p:spPr>
          <a:xfrm>
            <a:off x="1779480" y="2284560"/>
            <a:ext cx="5612040" cy="396540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0"/>
          <p:cNvSpPr/>
          <p:nvPr/>
        </p:nvSpPr>
        <p:spPr>
          <a:xfrm>
            <a:off x="5638680" y="2820960"/>
            <a:ext cx="2971800" cy="1191240"/>
          </a:xfrm>
          <a:prstGeom prst="rect">
            <a:avLst/>
          </a:prstGeom>
          <a:solidFill>
            <a:srgbClr val="800080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labels and format of your output may be somewhat differen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AutoShape 14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9673-6CC6-4B6C-B2AE-72E538A61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 Output: 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Descriptive Statistic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26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AutoShape 7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AutoShape 10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1" name="Picture 12" descr="C:\Instructional Technology\BCT689\PowerPoint\spss gifs\factorial anova\output2.gif"/>
          <p:cNvPicPr/>
          <p:nvPr/>
        </p:nvPicPr>
        <p:blipFill>
          <a:blip r:embed="rId1"/>
          <a:stretch/>
        </p:blipFill>
        <p:spPr>
          <a:xfrm>
            <a:off x="1343160" y="2286000"/>
            <a:ext cx="6457680" cy="30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FFC6-EBCF-4207-B533-A248CC250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 Output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Test of Equality of Error Varianc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35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0" name="Picture 9" descr="C:\Instructional Technology\BCT689\PowerPoint\spss gifs\factorial anova\output3.gif"/>
          <p:cNvPicPr/>
          <p:nvPr/>
        </p:nvPicPr>
        <p:blipFill>
          <a:blip r:embed="rId1"/>
          <a:stretch/>
        </p:blipFill>
        <p:spPr>
          <a:xfrm>
            <a:off x="2468520" y="2284560"/>
            <a:ext cx="420696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ACA0-6D00-491A-980E-803B943C4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 Output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Tests of Between-Subjects Effec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44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9" name="Picture 9" descr="C:\Instructional Technology\BCT689\PowerPoint\spss gifs\factorial anova\output4.gif"/>
          <p:cNvPicPr/>
          <p:nvPr/>
        </p:nvPicPr>
        <p:blipFill>
          <a:blip r:embed="rId1"/>
          <a:stretch/>
        </p:blipFill>
        <p:spPr>
          <a:xfrm>
            <a:off x="1279440" y="2284560"/>
            <a:ext cx="6583320" cy="34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EB32-1A12-49C3-B1AE-D417B4BAA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5238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stimated Marginal Means: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Grand Mea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53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58" name="Picture 9" descr="C:\Instructional Technology\BCT689\PowerPoint\spss gifs\factorial anova\output5.gif"/>
          <p:cNvPicPr/>
          <p:nvPr/>
        </p:nvPicPr>
        <p:blipFill>
          <a:blip r:embed="rId1"/>
          <a:stretch/>
        </p:blipFill>
        <p:spPr>
          <a:xfrm>
            <a:off x="2382840" y="2284560"/>
            <a:ext cx="437832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2F4F-B112-491F-9D13-A1BC4D377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Gender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62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67" name="Picture 9" descr="C:\Instructional Technology\BCT689\PowerPoint\spss gifs\factorial anova\output6.gif"/>
          <p:cNvPicPr/>
          <p:nvPr/>
        </p:nvPicPr>
        <p:blipFill>
          <a:blip r:embed="rId1"/>
          <a:stretch/>
        </p:blipFill>
        <p:spPr>
          <a:xfrm>
            <a:off x="1514520" y="2284560"/>
            <a:ext cx="611496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028B-2A54-4CD3-8F46-5B4DF0955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Gender: Pairwis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71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76" name="Picture 9" descr="C:\Instructional Technology\BCT689\PowerPoint\spss gifs\factorial anova\output7.gif"/>
          <p:cNvPicPr/>
          <p:nvPr/>
        </p:nvPicPr>
        <p:blipFill>
          <a:blip r:embed="rId1"/>
          <a:stretch/>
        </p:blipFill>
        <p:spPr>
          <a:xfrm>
            <a:off x="1000080" y="2284560"/>
            <a:ext cx="71438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77CD-CC80-4B82-850C-36E20D5AC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Gender: Univariate Tes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80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5" name="Picture 9" descr="C:\Instructional Technology\BCT689\PowerPoint\spss gifs\factorial anova\output8.gif"/>
          <p:cNvPicPr/>
          <p:nvPr/>
        </p:nvPicPr>
        <p:blipFill>
          <a:blip r:embed="rId1"/>
          <a:stretch/>
        </p:blipFill>
        <p:spPr>
          <a:xfrm>
            <a:off x="1771560" y="2284560"/>
            <a:ext cx="560088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3EE8-E1AC-4AD3-B330-A9F7BF906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esloc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89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94" name="Picture 9" descr="C:\Instructional Technology\BCT689\PowerPoint\spss gifs\factorial anova\reslocoutput1.gif"/>
          <p:cNvPicPr/>
          <p:nvPr/>
        </p:nvPicPr>
        <p:blipFill>
          <a:blip r:embed="rId1"/>
          <a:stretch/>
        </p:blipFill>
        <p:spPr>
          <a:xfrm>
            <a:off x="1496880" y="2284560"/>
            <a:ext cx="615024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1E1D-3F45-4E67-A4B1-E4198B87E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neral Linear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7" name="Picture 10" descr="GLM1"/>
          <p:cNvPicPr/>
          <p:nvPr/>
        </p:nvPicPr>
        <p:blipFill>
          <a:blip r:embed="rId1"/>
          <a:srcRect l="0" t="0" r="0" b="6480"/>
          <a:stretch/>
        </p:blipFill>
        <p:spPr>
          <a:xfrm>
            <a:off x="4799160" y="2741760"/>
            <a:ext cx="3809880" cy="1858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2"/>
          <p:cNvSpPr/>
          <p:nvPr/>
        </p:nvSpPr>
        <p:spPr>
          <a:xfrm>
            <a:off x="762120" y="4572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ivariat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AutoShape 14">
            <a:hlinkClick r:id="" action="ppaction://hlinkshowjump?jump=nextslide"/>
          </p:cNvPr>
          <p:cNvSpPr/>
          <p:nvPr/>
        </p:nvSpPr>
        <p:spPr>
          <a:xfrm>
            <a:off x="6553080" y="3581280"/>
            <a:ext cx="1447920" cy="228600"/>
          </a:xfrm>
          <a:custGeom>
            <a:avLst/>
            <a:gdLst>
              <a:gd name="textAreaLeft" fmla="*/ 14760 w 1447920"/>
              <a:gd name="textAreaRight" fmla="*/ 1433160 w 1447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6630" h="21600">
                <a:moveTo>
                  <a:pt x="0" y="0"/>
                </a:moveTo>
                <a:lnTo>
                  <a:pt x="136630" y="0"/>
                </a:lnTo>
                <a:lnTo>
                  <a:pt x="136630" y="21600"/>
                </a:lnTo>
                <a:lnTo>
                  <a:pt x="0" y="21600"/>
                </a:lnTo>
                <a:close/>
              </a:path>
              <a:path fill="lightenLess" w="136630" h="21600">
                <a:moveTo>
                  <a:pt x="0" y="0"/>
                </a:moveTo>
                <a:lnTo>
                  <a:pt x="136630" y="0"/>
                </a:lnTo>
                <a:lnTo>
                  <a:pt x="135230" y="1400"/>
                </a:lnTo>
                <a:lnTo>
                  <a:pt x="1400" y="1400"/>
                </a:lnTo>
                <a:close/>
              </a:path>
              <a:path fill="darken" w="136630" h="21600">
                <a:moveTo>
                  <a:pt x="136630" y="0"/>
                </a:moveTo>
                <a:lnTo>
                  <a:pt x="136630" y="21600"/>
                </a:lnTo>
                <a:lnTo>
                  <a:pt x="135230" y="20200"/>
                </a:lnTo>
                <a:lnTo>
                  <a:pt x="135230" y="1400"/>
                </a:lnTo>
                <a:close/>
              </a:path>
              <a:path fill="darkenLess" w="136630" h="21600">
                <a:moveTo>
                  <a:pt x="136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230" y="20200"/>
                </a:lnTo>
                <a:close/>
              </a:path>
              <a:path fill="lighten" w="136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0B7B-1E01-4FE1-91C6-F9E8496F0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esloc: Pairwis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98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3" name="Picture 9" descr="C:\Instructional Technology\BCT689\PowerPoint\spss gifs\factorial anova\reslocoutput2.gif"/>
          <p:cNvPicPr/>
          <p:nvPr/>
        </p:nvPicPr>
        <p:blipFill>
          <a:blip r:embed="rId1"/>
          <a:stretch/>
        </p:blipFill>
        <p:spPr>
          <a:xfrm>
            <a:off x="565200" y="2284560"/>
            <a:ext cx="801216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2BD3-A6BD-49EF-884C-2931D7DFE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esloc: Univariate Tes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07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12" name="Picture 9" descr="C:\Instructional Technology\BCT689\PowerPoint\spss gifs\factorial anova\reslocoutput3.gif"/>
          <p:cNvPicPr/>
          <p:nvPr/>
        </p:nvPicPr>
        <p:blipFill>
          <a:blip r:embed="rId1"/>
          <a:stretch/>
        </p:blipFill>
        <p:spPr>
          <a:xfrm>
            <a:off x="1822320" y="2284560"/>
            <a:ext cx="54975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7E70-9DA6-4F1E-88C7-8D4F09B7B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eraction: Means, Std Errors, C.I.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16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1" name="Picture 9" descr="C:\Instructional Technology\BCT689\PowerPoint\spss gifs\factorial anova\output9.gif"/>
          <p:cNvPicPr/>
          <p:nvPr/>
        </p:nvPicPr>
        <p:blipFill>
          <a:blip r:embed="rId1"/>
          <a:stretch/>
        </p:blipFill>
        <p:spPr>
          <a:xfrm>
            <a:off x="736560" y="2284560"/>
            <a:ext cx="7669080" cy="23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0E83-AAB0-417A-AB8D-AEC643665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: Gender*Resloc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25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0" name="Picture 9" descr="C:\Instructional Technology\BCT689\PowerPoint\spss gifs\factorial anova\plot1.gif"/>
          <p:cNvPicPr/>
          <p:nvPr/>
        </p:nvPicPr>
        <p:blipFill>
          <a:blip r:embed="rId1"/>
          <a:srcRect l="3910" t="13880" r="1955" b="0"/>
          <a:stretch/>
        </p:blipFill>
        <p:spPr>
          <a:xfrm>
            <a:off x="2238480" y="2147760"/>
            <a:ext cx="4695840" cy="403380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10"/>
          <p:cNvSpPr/>
          <p:nvPr/>
        </p:nvSpPr>
        <p:spPr>
          <a:xfrm flipH="1">
            <a:off x="6844680" y="4495680"/>
            <a:ext cx="75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8A8A-FC96-4158-84A7-70BF50C5D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: Resloc*Gender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35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0" name="Picture 10" descr="C:\Instructional Technology\BCT689\PowerPoint\spss gifs\factorial anova\plot2.gif"/>
          <p:cNvPicPr/>
          <p:nvPr/>
        </p:nvPicPr>
        <p:blipFill>
          <a:blip r:embed="rId1"/>
          <a:srcRect l="2130" t="2939" r="2130" b="4112"/>
          <a:stretch/>
        </p:blipFill>
        <p:spPr>
          <a:xfrm>
            <a:off x="2238480" y="2147760"/>
            <a:ext cx="492444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6B97-F529-45D6-B880-C4CB6D0B7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Factorial ANOVA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219320" y="4038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options in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1220760" y="4648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AutoShape 8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AutoShape 10"/>
          <p:cNvSpPr/>
          <p:nvPr/>
        </p:nvSpPr>
        <p:spPr>
          <a:xfrm>
            <a:off x="1523880" y="464832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003A-0D19-4B07-9D08-EC6CE1690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neral Linear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4572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ivariat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icture 7" descr="FACANOV1"/>
          <p:cNvPicPr/>
          <p:nvPr/>
        </p:nvPicPr>
        <p:blipFill>
          <a:blip r:embed="rId1"/>
          <a:stretch/>
        </p:blipFill>
        <p:spPr>
          <a:xfrm>
            <a:off x="4800600" y="2741760"/>
            <a:ext cx="3821040" cy="18288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8">
            <a:hlinkClick r:id="" action="ppaction://hlinkshowjump?jump=nextslide"/>
          </p:cNvPr>
          <p:cNvSpPr/>
          <p:nvPr/>
        </p:nvSpPr>
        <p:spPr>
          <a:xfrm>
            <a:off x="6629400" y="3581280"/>
            <a:ext cx="1828800" cy="228600"/>
          </a:xfrm>
          <a:custGeom>
            <a:avLst/>
            <a:gdLst>
              <a:gd name="textAreaLeft" fmla="*/ 14760 w 1828800"/>
              <a:gd name="textAreaRight" fmla="*/ 1814040 w 1828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72562" h="21600">
                <a:moveTo>
                  <a:pt x="0" y="0"/>
                </a:moveTo>
                <a:lnTo>
                  <a:pt x="172562" y="0"/>
                </a:lnTo>
                <a:lnTo>
                  <a:pt x="172562" y="21600"/>
                </a:lnTo>
                <a:lnTo>
                  <a:pt x="0" y="21600"/>
                </a:lnTo>
                <a:close/>
              </a:path>
              <a:path fill="lightenLess" w="172562" h="21600">
                <a:moveTo>
                  <a:pt x="0" y="0"/>
                </a:moveTo>
                <a:lnTo>
                  <a:pt x="172562" y="0"/>
                </a:lnTo>
                <a:lnTo>
                  <a:pt x="171162" y="1400"/>
                </a:lnTo>
                <a:lnTo>
                  <a:pt x="1400" y="1400"/>
                </a:lnTo>
                <a:close/>
              </a:path>
              <a:path fill="darken" w="172562" h="21600">
                <a:moveTo>
                  <a:pt x="172562" y="0"/>
                </a:moveTo>
                <a:lnTo>
                  <a:pt x="172562" y="21600"/>
                </a:lnTo>
                <a:lnTo>
                  <a:pt x="171162" y="20200"/>
                </a:lnTo>
                <a:lnTo>
                  <a:pt x="171162" y="1400"/>
                </a:lnTo>
                <a:close/>
              </a:path>
              <a:path fill="darkenLess" w="172562" h="21600">
                <a:moveTo>
                  <a:pt x="172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62" y="20200"/>
                </a:lnTo>
                <a:close/>
              </a:path>
              <a:path fill="lighten" w="172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066680" y="5257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B814-0C61-434E-A2AA-6801F03A9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02" name="Picture 15" descr="C:\Instructional Technology\BCT689\PowerPoint\spss gifs\factorial anova\UNIVAR1.TIF"/>
          <p:cNvPicPr/>
          <p:nvPr/>
        </p:nvPicPr>
        <p:blipFill>
          <a:blip r:embed="rId1"/>
          <a:stretch/>
        </p:blipFill>
        <p:spPr>
          <a:xfrm>
            <a:off x="609480" y="2286000"/>
            <a:ext cx="4434120" cy="3652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6"/>
          <p:cNvSpPr/>
          <p:nvPr/>
        </p:nvSpPr>
        <p:spPr>
          <a:xfrm>
            <a:off x="5410080" y="2133720"/>
            <a:ext cx="335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ose the variables for analysis from the  list in the variable 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5410080" y="3886200"/>
            <a:ext cx="3353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this tutorial, begin by pointing to the variable labeled 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GENDER OF STUD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AutoShape 19">
            <a:hlinkClick r:id="" action="ppaction://hlinkshowjump?jump=nextslide"/>
          </p:cNvPr>
          <p:cNvSpPr/>
          <p:nvPr/>
        </p:nvSpPr>
        <p:spPr>
          <a:xfrm>
            <a:off x="762120" y="34290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Line 21"/>
          <p:cNvSpPr/>
          <p:nvPr/>
        </p:nvSpPr>
        <p:spPr>
          <a:xfrm flipH="1" flipV="1">
            <a:off x="1982880" y="3656160"/>
            <a:ext cx="457200" cy="155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FDF5-B0AF-4EDA-A8B2-6B0727832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410080" y="2133720"/>
            <a:ext cx="335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ose the variables for analysis from the  list in the variable 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410080" y="3886200"/>
            <a:ext cx="3353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this tutorial, begin by pointing to the variable labeled 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GENDER OF STUD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AutoShape 7">
            <a:hlinkClick r:id="" action="ppaction://hlinkshowjump?jump=nextslide"/>
          </p:cNvPr>
          <p:cNvSpPr/>
          <p:nvPr/>
        </p:nvSpPr>
        <p:spPr>
          <a:xfrm>
            <a:off x="762120" y="34290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9" descr="C:\Instructional Technology\BCT689\PowerPoint\spss gifs\factorial anova\UNIVAR2.TIF"/>
          <p:cNvPicPr/>
          <p:nvPr/>
        </p:nvPicPr>
        <p:blipFill>
          <a:blip r:embed="rId1"/>
          <a:stretch/>
        </p:blipFill>
        <p:spPr>
          <a:xfrm>
            <a:off x="611280" y="2284560"/>
            <a:ext cx="4451400" cy="3652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6172200" y="5486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AutoShape 12">
            <a:hlinkClick r:id="" action="ppaction://hlinkshowjump?jump=nextslide"/>
          </p:cNvPr>
          <p:cNvSpPr/>
          <p:nvPr/>
        </p:nvSpPr>
        <p:spPr>
          <a:xfrm>
            <a:off x="757080" y="3427560"/>
            <a:ext cx="1828800" cy="30132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1320"/>
              <a:gd name="textAreaBottom" fmla="*/ 281880 h 301320"/>
            </a:gdLst>
            <a:ahLst/>
            <a:rect l="textAreaLeft" t="textAreaTop" r="textAreaRight" b="textAreaBottom"/>
            <a:pathLst>
              <a:path w="130966" h="21600">
                <a:moveTo>
                  <a:pt x="0" y="0"/>
                </a:moveTo>
                <a:lnTo>
                  <a:pt x="130966" y="0"/>
                </a:lnTo>
                <a:lnTo>
                  <a:pt x="130966" y="21600"/>
                </a:lnTo>
                <a:lnTo>
                  <a:pt x="0" y="21600"/>
                </a:lnTo>
                <a:close/>
              </a:path>
              <a:path fill="lightenLess" w="130966" h="21600">
                <a:moveTo>
                  <a:pt x="0" y="0"/>
                </a:moveTo>
                <a:lnTo>
                  <a:pt x="130966" y="0"/>
                </a:lnTo>
                <a:lnTo>
                  <a:pt x="129566" y="1400"/>
                </a:lnTo>
                <a:lnTo>
                  <a:pt x="1400" y="1400"/>
                </a:lnTo>
                <a:close/>
              </a:path>
              <a:path fill="darken" w="130966" h="21600">
                <a:moveTo>
                  <a:pt x="130966" y="0"/>
                </a:moveTo>
                <a:lnTo>
                  <a:pt x="130966" y="21600"/>
                </a:lnTo>
                <a:lnTo>
                  <a:pt x="129566" y="20200"/>
                </a:lnTo>
                <a:lnTo>
                  <a:pt x="129566" y="1400"/>
                </a:lnTo>
                <a:close/>
              </a:path>
              <a:path fill="darkenLess" w="130966" h="21600">
                <a:moveTo>
                  <a:pt x="130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566" y="20200"/>
                </a:lnTo>
                <a:close/>
              </a:path>
              <a:path fill="lighten" w="130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00:33:49Z</dcterms:created>
  <dc:creator>Julia Hartman</dc:creator>
  <dc:description/>
  <cp:keywords>SPSS ANOVA</cp:keywords>
  <dc:language>en-US</dc:language>
  <cp:lastModifiedBy>Windows User</cp:lastModifiedBy>
  <dcterms:modified xsi:type="dcterms:W3CDTF">2011-12-05T18:41:43Z</dcterms:modified>
  <cp:revision>129</cp:revision>
  <dc:subject>Factorial ANOVA</dc:subject>
  <dc:title>SPSS Factorial ANOVA Tutorial</dc:title>
</cp:coreProperties>
</file>